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241E-537A-4B9C-B425-AE6D53E2D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412F2-65BC-4D13-9CD2-6658E1CAA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0B619-7514-47CF-8A41-76011F2E1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9C21B-44EE-40C7-AD32-FB9DDB7A5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4DF37-E7C0-4DF6-A842-39FA91497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BBC1A-980E-4F05-8E04-45EFD1B2C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4662A-6E90-4BC3-BB4D-7F9070326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395B8-2066-4E19-9ED4-718A20DB8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50632-837D-4B7C-B7B3-3F6317338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C4829-26E1-41F2-B168-4DBE50921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63616-C5F2-4DDD-AF06-2450EE27A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7FC7A-4286-406B-A7AA-F830E5639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832D8-053B-4A72-B2A8-D967873CF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8C36E-08BA-4E25-A45B-44238618E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ED509-3C3C-43D3-B173-1A5BE2719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DB4DA-07F9-4DD9-9F6A-9553672A3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5441A-6C9D-4E67-9B82-369B1570D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1C9B4-01CD-4122-91C4-FCA809204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2079C-2473-4529-AD9A-E42383867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16AD-F74D-4AF7-A2F0-CDA179086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F97E-AAAA-4A43-A1EF-F50A25CC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7BD9E-9BF0-4C96-AC52-26EDE9286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72983-2893-4C78-8A61-7DC1ADF33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979CC-EF0D-41B0-B202-AAE423B0A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3E992-B7BC-41CD-8047-4E8F4448E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83D9-7A90-4E01-8773-982841C7E93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71F3-E339-4B11-9BC8-B105D500C53B}"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F41186EF-1C6C-445D-989F-27EAD769D5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9E650A-EECE-45E9-B2E3-44237B2FAC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F495E6-80DF-4D17-81F7-5DE830CE42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149626-93EE-4F38-969B-9C3B278B54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3A4D22-D382-4638-8FC8-70787F957A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FB7DD5-5A72-405C-9BD1-DE17AD9AE1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388B95-F91E-4261-9C0F-547F8943A2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1E429A-9B1F-4589-9874-884CC22C1E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9C2E94-E35E-47D5-80B0-BEBD123EBC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E5F75C-82F9-4258-A9E0-10238F780C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6E21EC-9054-41A2-B8ED-0A39951499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736855-7168-4D95-B343-153FF92C8A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62DE09-C195-4CDC-A4AB-2B9DB41CD5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D3DD09-6D27-4577-9F87-4F12184384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E1F7C3-1546-47E5-AA6A-8017C9C080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361D4B-8410-4020-8E1F-129DF3E591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EA62F7-D27F-4C00-B8C3-5A367DAB1B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7E85F5-E882-4ED0-A2ED-31F7089B727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B9B004-A40F-4D66-970D-B2167CBDCD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A370D8-D48E-420D-93E7-F58821D32F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517037-2B61-466E-BE90-A281304850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878781-27F5-48EE-B5F3-C4497732DC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0BCE50-00B9-485F-BB6C-36202EF5C1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72FD625-4BFB-40BF-9FD4-63DBBF617D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BE35D3D-E3BF-4AE6-B67C-080A4B175B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F9A775-610B-4951-AB90-69469E88BC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680A38-5627-4375-8AD3-608396F1CD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5B2513-2486-48AF-B6C7-C8BC13D240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278490-8A69-4C94-9886-2491EA7C79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62F082-172C-4F20-BAAD-E4154D666A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016EDF-5DEB-488E-AF9B-02C778EC3E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5F38AEB-4925-45DA-8D48-8FF6AEDCD6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5ACEE6D-ECBA-422D-9166-80B60FA81F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A745CA-2A6B-4589-AC50-D393FCD5A0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7198C6-9EB8-40F7-8E6E-C70A276356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378378-B816-4B62-B694-B0B70F66D5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8198B4-3719-4758-9A08-3493ABCDFE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88E154-972F-4242-8622-9FE43B700A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3CF6D3-3146-4CA7-B466-73C1D10B17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CB1115-4D28-44D6-B629-B362CAA609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986A26-5301-4CA2-9CB1-6178DBA526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4FF65A-1872-4CB2-8D28-628D4E8DE8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CCFDF4-7944-4EDC-9439-A2030F43E9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FF9FFA-E697-433A-A8AB-7A2AAEE329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E8A0E7-73A5-44C4-B515-B41493446D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430894-2F98-45C5-A70E-24DAA851B8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4ABED3A-3FD7-4609-9C87-0505F6680A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3513174-246E-4234-A691-9956DF3B3B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447C88D-CFA7-4C13-8E9C-54BA938F64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FA91597-56A8-4EF8-8C25-38BEAE00C7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D942C8-646B-41D0-844B-69C8E13AE6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F7A1DA-7381-4964-A64B-0FC21E5F93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3CC4AC-0AC6-4169-B5A3-A239D73DA5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AED10B-6126-40B0-9DBE-5E4FE60D99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2A5CDC-8D57-4246-A4DA-FCADA7F7CC9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3E743B-1263-40B4-AD72-261FC64F4D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B4B1DD-E233-452A-91FC-94AC813DBD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54471A-D1F0-498F-83EC-77F2F3AFFF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543AE40-5B66-4E45-ADAA-62527168C8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AB2763-4D66-4EB3-AD45-4617D6DF0C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854D768-317B-4301-87A0-2E41938D3C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680793-28F6-496B-8605-624F681FD3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540295-99EA-4464-91D8-D2834E20CD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484E88-D1E7-461C-93B1-F396ABB37F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430688-E701-472C-9E8E-1A23533559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49E3E6-A6A0-4579-A908-69A4D54F07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9AC8945-0F96-4A8E-97B2-017E1B6390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359E82-F3B1-4573-95DD-A7763C49B8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83D9C86-CA8A-4E87-8FD3-7609751FC8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7D5EEF-FE3A-4673-8F0A-8AE206B0187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2A7714-F206-4844-BCE4-CB663B2142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A8C9E12-271D-4911-B229-ABE47C002E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DE7598-1BA9-4047-8D82-7DA4B0FF87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AD53402-DFE3-448E-B9CD-5C29D0A521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6D5FF8-23F3-492D-9B52-2DBB972E8B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9DFC76-C467-4D57-B2F7-6AD2B14560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EE28FF-CA05-4D75-96AE-814B78D87A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600A19-BBB1-4CDA-ABC2-7CDCEE28DB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B4F900-204E-4374-9DC5-84EBFEDFD72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CBFC81-4F2E-4856-8E20-3988936E35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765694-B138-4592-9C60-178B356A7C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D2FA1F-BFBD-4754-9AE3-497C68DCD3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B1B969-6B22-4CFA-B15E-D24FEA83A5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E8AD7C-5D63-4024-8C6E-AA6140EF78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D10B05-37F3-4926-B430-749FEBDDF5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005182-FAD9-444D-BD86-6BBA43D75E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66FBA5-E012-4CE5-97B5-8530A8CA00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CBF8B9-A4A5-4911-B7D7-F636654C2A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468F798-1E50-4656-9DF6-27AB9B906B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EDB2E7-055D-454A-83A6-5ED51A80AD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196067-977E-4E84-9DF3-142445EA5F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0A93D31-8AA2-4318-9AA6-B324F436CB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D7D6227-71EE-4314-8704-7553F3237F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AE3E5C-2FC0-4CAE-BF5A-9CFAA0DEB8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737D6B-5656-4F3F-8EEE-231AAFC081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B4160FF-47A0-4398-B986-F773F075B0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CE972B-037D-4ED2-BBC6-2D2D6F1BE6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D978D9-A040-4179-912A-C78CB5E629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1E614F-94F5-43FA-AEC8-7A35128D49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5B4BB8-66F8-46DF-BA81-E1D819AC1D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EF0F6B-BFA8-4E77-8871-32C91F02D7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FFE21D-E711-4B86-8E97-5E1417B9DA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418463-901D-477A-B4C3-D80A80BE3C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C9A36B-0C9B-4D37-A064-F44E5EBFAA2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AAA72D9-B04E-4121-982D-D365951283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A9152F-D2A9-410D-B74D-1CD3C3FCE2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BD2C33-E216-4B15-86A2-6C510BD581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A867E6-3A24-422A-A746-32D31BD3F2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6057CD-BEC4-4C9C-B7AB-F5358E2229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FA9077-BE50-409D-A8E4-0C5AB6E372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C6187B-86AA-4940-8794-62566EB245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E64A0B-2ACE-4EC9-857B-059F34C9A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A196E3-1209-4974-A578-CE1E4F77E4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BBFE27-1CA2-46EF-94F2-63F5F88C25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96B6BD-3565-4F6F-846D-5BC0255E7F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5C1247-173E-42F9-96F1-C4CB1CE2C7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393228-AE8D-40AA-8CE4-AA90F1B026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F57B47-194A-4216-84D0-2B0A7C7E2D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8C7965-ED49-44F5-95A1-58F5955B63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5D639E-3E71-400E-81E5-8B63A154C7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633CCE-E8F8-4149-A84C-2FE391983E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CD7C79-B541-42CF-8891-DFB75CFFE3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A154F2-04A7-497A-A4D4-E2A9283E92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33339E-8E8A-4A16-B78A-54A09F27C3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6BE6E5-C52D-4498-8030-DFD53CD196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5FBF9F-B481-4F81-BE1D-469EE7E2AC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82B6CF-D854-4A09-B880-395F0E7A72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EF1B14-E491-4865-8E9C-7D67E1F2DA7A}"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5E69CA-151D-490C-91B7-82895296F00C}"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3D4FE5-DA87-41DB-A23B-ED9D846CE784}"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C1787C-B6A4-4407-AF63-727E080508C9}"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521A8C-10D2-4011-93E7-DA0D5DD2C331}"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A23633E-1343-4CB0-AF45-2D74AC158637}"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742C05-53B8-48AC-8165-9C2D2395E65D}"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AE62CA-C000-4F1E-A980-1A2D209F3BA3}"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346749-F6BB-4D7D-94BD-1F2A0DCD8B3B}"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AD2DCF-C0B8-4342-97FA-04FABB85A34F}"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22F67784-1152-4F21-8CB5-14E4331CBC5B}"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5AA727-B9E0-4A39-8EBE-77A83E5DD099}"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4CF9F3-9D9E-471A-B30A-BCD68A1A7FAE}"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533E42-33F2-4104-B776-09CA9819E8D9}"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13C708-7AD5-495B-80F9-45F06230A357}"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F32984-73AD-426E-8F8D-0B04080556A7}"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4FEF84-E6D0-4C83-986B-F1FE0E695E02}"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EEFB3D-EDA2-4816-BD93-2829255B2657}"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9F67F9-D5D1-4940-8B97-A3B3A4842992}"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A8E5D9E-2B2B-4D14-AE1D-190AFC0204CB}"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F9E522-D794-4750-B72E-A2305D465FF2}"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4D8A81-B1BE-4DF0-B91E-213841BEF6E6}"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0F01BF-CBAD-49E7-A645-1162C5EC5456}"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4259E8-4BD4-4597-9BF8-5B6D36B2A89A}"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A09C7B-5CB1-4354-863B-91F906DD4B59}"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1DCE5C1-E091-4B8B-999F-0BD0349AF44F}"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DA241B6-5A2B-4A38-8AC0-033A339FB1C9}"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742160-C25E-434F-901C-2160DE8E5EC1}"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F555DF-FB86-44F8-B061-6AAAE63611FE}"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45FA7D-05B6-4CEA-88B3-6620D12BB89F}"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D82764B-5436-4D93-AA0C-C0B13C6C97EB}"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D5AB441-0AF8-4889-839D-C406442FACDF}"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7D3146-4E0B-4069-9FCF-33CF5F171258}"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4516FD-CE70-48AE-B4DE-9B4A3D19CD80}"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19F77A-2741-4D86-8D74-B09F454F60B6}"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C9D963-28FC-42DF-83B0-73B36DF5FA4B}"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E818DE-2DB4-41C3-94E8-83D330F7AE51}"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85D347-C41A-4B67-9134-6E51B0EC01B0}"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F58E5F-D8B1-4F3A-BB0E-1D4E76584B93}"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E6F4F54-545B-435C-9FD0-B6D12745B475}"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06DC12B-B976-4A5A-B6E1-49426AD1F6C4}"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AF11D78-4112-4182-8CBD-B3DAC1F2F7BB}"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AB2E3E96-999F-41BB-8FE4-3109B7B3127B}"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32D587-2CFD-43D5-8E7A-7269D213484E}"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78B934-4EA6-4767-B4E9-50E51D659701}"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FB23F4-C8C4-4D80-B4D6-18BD44A6DBB4}"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40E47C-BFD8-47E1-9CB9-94166D789F0E}"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55EDCD-FAAB-4D59-99A8-192079500FF7}"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16EA09-F614-4AA9-9345-B6CA894F3FEC}"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F86F25-9E0D-406F-A9AB-01D48D607F56}"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20AE479-461C-40EC-8A46-A42F93A02B0F}"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B37712-90DC-41AF-947F-450483EE7E57}"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FB3546-C048-43F3-B781-057E89889604}"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FBFCEFE-6AE5-4929-A70A-EFE0651908DC}"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214949-313D-4F6C-B794-CC9874AA153B}"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6B6615E-7B51-4F26-810A-72053E5F8B85}"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8CB4DB-92FD-4EAF-B20B-3A1C5D5E7CF1}"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C59DFF-1320-4AFE-A382-12A1BABB1FDB}"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53DD98-615F-425A-89D3-DD6E5847D3B0}"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1FAF67-8BB2-4C13-857C-BFF3FBADE4FA}"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6975AC-CAAE-41CF-AD36-4D45E475E154}"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4C4732-607B-4275-9B4C-014ADCD6DDCC}"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445EA4-7B99-41D7-9C6A-473BD0AFBAE0}"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77DD5E-8BEA-432D-B69C-ECF97A559AB2}"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A54098-E1D9-4025-A5D6-0C188FA97E78}"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842013-EB27-45CC-9047-016353797C38}"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0F33E6-A49B-4B1B-ADFF-26A2BDBEED61}"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F54F78-75E3-48E2-942D-16362A326248}"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E37160-2349-42E1-A022-339C83785833}"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2E4D1F-E605-453D-AB84-4B386F2E867D}"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D98344-F97F-4B3F-AC37-783D4F40C06A}"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135F3B-CA08-4181-AC89-818F6591175F}"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1FC80C-FFD2-420D-A4FD-976BF59F804A}"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089075-B707-47D7-996F-8DAC6DF7651E}"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E0F676-133E-478E-9BCE-BECC0B9BCDB1}"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3FAB11-2D80-4BDA-9296-70B3BAA00BEA}"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555D2B-1386-4973-97A2-E2DFF6A0D97C}"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317AA5-208E-4057-A28F-DE08FF19F64C}"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1EFBF6-D494-4728-A8C0-0B10A3496F4F}"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C3A932-2401-4C65-8B4F-EF93A7150C6E}"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A3885C-5197-4B6B-A9D2-CCD7DA01ABD3}"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6CE41BCC-5737-4265-A42A-6DBAC1037498}"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443425-0FF1-46DE-B4DE-CE3911039731}"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CFB30DF-FC00-4179-B03D-DB279A3A3C75}"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5C39C1-C884-435A-A6D5-9BC0062AA388}"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DFB0EEF-76E9-4FF6-821B-8315015BD8BE}"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FB7956D-EAB7-4C9E-905B-722F5387F603}"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9EF1A4-3474-4952-ACFB-EE1F4C00CD93}"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2133BF1-6B72-446C-9351-1429603E739A}"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444047-D8E1-4254-B615-B2ECA0ED96CF}"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C4D566-36BD-4BE5-A996-369CBDC768C1}"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F538B8-A6E2-4764-B7C5-484759DECCE3}"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519DD2-DE18-43AB-8B78-DDB350386F10}"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BDCDCF-9498-4C16-A0F5-5A2B979769F7}"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0931AE-8CFB-4C6D-A11E-CBA7F28FBFD9}"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376B7C-38A6-4CFF-992E-EA3EF88307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5DEBA0-BE08-4969-8199-8268D6469B7B}"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9BD656-0C7A-424B-BE13-600324D30DB5}"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1BEDCB1-50B5-4EAD-94E2-4009B4DA95A1}"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E616141-3717-4733-8430-08AE8BC8CA24}"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711441C-0D85-43F1-B772-6C6ECDB9C223}"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85EAAA-07A8-4D0A-B4D0-189D18810387}"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10C8AE-E974-41A7-A9E1-5250D7435212}"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F044DE-8442-47CC-8847-250FEE6ADA77}"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97AA7C-87BB-4C4E-A182-E8D98E8D3054}"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B673ED5-93F2-4DFB-839A-0FBB955C234B}"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5055F5-CDDA-48AB-B895-2740B04FE0CD}"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EAE9B5-EDFF-49FB-AF0F-B7A02060EE79}"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5B526C-C896-48D5-8099-2C43EDDC7FA8}"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1FBD80-4B87-4458-905A-1CEFAAD3999E}"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A2D07B-4B4E-4F40-8D92-437E15EDF491}"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900EF4-2E6C-4F0A-9004-979B8B06D063}"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663F2EA3-8E81-4460-93DB-33200A9D31B2}"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2376ED-B11E-48DD-8B8D-B32C5B5318DC}"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A37309-5F1A-4770-9483-C43A1CF1356D}"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21F02F-02C4-4726-A912-99CD9082F056}"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75EC47A-0FC1-4630-AFAF-807B42407B5F}"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E13CD9-0853-4F39-BDB2-6EC4A6465E20}"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C0A808-B397-47ED-8616-067BB804BA4C}"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4DD3504-76A5-4287-873B-4E8C41D829E4}"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6EED00-7BB8-4DF2-88E8-686ACA37C83C}"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5078F1-D0EC-4805-B86D-783B9EA4FE4C}"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96C3792-3801-4C4A-9AFE-CF1C38F1B686}"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FAE3B17-4A35-47BF-8E58-F14196ACB888}"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9174F75-090C-485A-B758-25CDB9DF75DB}"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402CAD0-29B9-4EC5-80B0-3882CDAF13A0}"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6B9972-7060-40EA-875B-DF371D40D3BD}"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3C1E84-5285-4304-A530-DD219873B663}"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AADD8F8-075F-4608-B23D-7A0311340A10}"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1230AC-F1FE-468E-B006-3ABF324D69CD}"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7BE400-53F9-4500-8C1A-2C12528938BA}"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54A0131-6A80-4F0F-9975-A254CA8D88F0}"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07B9CA-3B73-4256-8456-689013351A5C}"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79D1A70-EB25-4BEE-914E-87C08C8A0DD7}"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AB7BF3-48A7-493D-81BE-BD768AACF186}"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F692E5-7BB7-4502-9BD2-C1C019BEE3AF}"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B97229-3814-4B7F-B33F-7E2FDFD3D10C}"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397890-582A-4BFE-BFEC-3012B3053B65}"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59134D-43FB-4604-9B37-7CC9BD702915}"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54E4327-798F-4CF0-9989-C0C7EF079F2E}"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AEEF48-5560-4AA7-8ED9-A10FE64E64EF}"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F21F5E-694D-4C57-B705-F8B0AD08FB01}"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644BC0A-46C0-4321-8DAD-3BCCC5580B06}"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D39DD1-A15E-4586-A511-968FEF58353A}"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E734B34-F3E8-4166-AEDA-C02E9360F030}"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4924DE-ACDC-4A85-81FD-C30D78D61492}"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E6BB57B-320B-475A-8DDE-70C07C3EE6FF}"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98F5E0C-AE21-413D-894D-F09AB0779085}"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B52703-D6F8-402D-8CC1-5E2BB7E1C7EA}"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82005C-C2E7-4CC0-A6C7-783D18F58D65}"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DFBE45-2D2F-4F49-8C24-920CFDB71275}"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F79825-CBD1-4520-A0E3-46C00C210CB6}"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75983A8-B293-4904-988B-01E231AD2AA9}"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CFD8C93-CDF0-48A1-80A3-F9702130C0B7}"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C2579A-69DF-4739-A7AB-0D6B1A2B46B1}"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A2A9CD-1A17-4FBD-8896-44C87C5F3AE3}"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FD64C2-2C43-4E72-90C5-BEE6D09EA278}"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38CEA95-18E8-4F18-96F9-0A815424F227}"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95B1BB0-7338-4633-AEE7-64DC6589A4D3}"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376323-5341-40E7-89B2-FCCE1C96FB89}"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9F2643-0DF6-4F87-B448-9A25BB0ED043}"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28EE82-637C-42FA-A7B9-25CDEBC02812}"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2DA490-CEF8-4C6E-9209-66E86FF8130B}"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7B23B2-810B-4DF5-880C-FD4C984FE2BB}"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8363DD9A-FA56-43DA-ABCE-0641883C3013}"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A0BCC6-5CAD-4CD3-86BE-1D8195EA7CDA}"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9C61D0-DFE2-4C04-A98A-5CB8E7EBF0C2}"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80715A-FCB1-49EA-A0A9-E01D40083A4E}"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3A64A20-D42B-48CF-877A-908B768F9070}"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1E0ED8C-0F98-49D0-AD68-6BCB26BDDB6E}"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673AAB3-FFA4-49E5-862B-268089C0915A}"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328962-0BAA-4FD3-AEAD-5B80091E4259}"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41A795-1326-4234-9AAA-496C2B9AF9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D6422C-C2EB-47EA-BFDE-C2B6D145A6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D1F577-5F00-44E3-A672-8F339654B0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E21BAB-0E14-4A5F-BBE6-40D1FB614C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D8A45A-EA6F-4F0C-AA3F-E7BAE739B8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C63C8A-3B92-4258-B061-7C4BB674A2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234282-FE73-4718-AC6A-A5B09E2C30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1958C8-6583-49AC-B80B-19F23DD628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6D1E98-ACEF-4EFE-BBB1-AEDFE62353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58A3A4-7F7C-4D48-B24B-973C7F12A1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50AC87EF-4748-41AB-AFEC-E56A8D991C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E6DDF2-7A71-410A-92E2-2B3CB5DC3D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2B1A1C-7BEE-4E67-BD32-8E0F470332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9ED7C8-09B4-4A50-89CD-E2C1998006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60C720-9A14-4E5F-80EB-C054F30DB6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D58D67-361E-4617-983F-5DE5949B17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05C3E82-DF74-4AEB-8B39-0BC4968C39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3BB162-438C-4E4F-BEE8-C9E3D34F64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AB826C-2377-4628-8036-2718967621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9317B0-B50A-400B-984A-A867F4C62F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345A30-7572-404E-A261-16053D384D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6B8A6B-8EBA-4D19-A532-B46F170904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AB2780D-99A3-4359-BC67-401375352C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9E0BB9-9A62-4B08-8E6C-1ABB257A96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510EB2-2A0C-41DC-83B4-47AF134F60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D2EBB8-087A-44CA-9071-6B46F76677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E39381-31BE-4069-83F2-65554F0ADB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287D4E-5326-4770-B360-B9AF667BDB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073949-4A6C-4987-BBE6-81BED973EA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D5C822-6BA3-4DE9-9485-32C9DC2CE4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4CBD9A0-EB11-4AFF-BF3F-948AC90965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39F2A2-9362-4291-BDBB-61E33C1BED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FBCDCE8-229C-4A59-B8D6-7C64B40B6C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8D26D0-A5EE-4B20-9D95-F99C7CF774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BE9A16-07F6-4EBA-8F92-57D6D4C2CD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DFA9596-D453-484B-B65B-AD01A27CA2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4B09DA-89E9-4A8A-A94F-A665A6E525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090866-0EF2-4A5A-86AB-9CD40944A4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C4DD927-A38D-4424-8166-6A970AF565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EB298B-B064-4164-969B-B40548B054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D9FE18A-6885-4E67-9F6E-6386AF36F9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11818E3-EA12-40EE-8BFC-35B95853C4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388149A-F026-4A15-B61B-FCF55EC07F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91C813A-0B3C-40AE-BBE5-6C5F7E187A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F01E50D-E9DE-4E67-86CA-42559B2B39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FE1D1AA-E9DE-468B-9675-83D2EEA42F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50CFA6-820A-4DA6-A386-703D758A6C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36CCC36-F854-4999-9113-BD18D98EE6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FBE210-9E85-43A6-97CC-0FDBABDBA5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CA1748-B6B1-4FEF-B524-6614CAB0B8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E9BCC0-A76B-4832-B028-340142B504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05CCFB-1898-454E-8258-C255D16E28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8009369-399D-4EFF-9DBB-498E8E2B17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F2F51A0-718F-41CE-8E1E-BD97C62771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0B0EF9C-5619-42CF-8710-F8243921CC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637469-8590-49B4-B4A2-9DEF6F1889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E1FA674-FD50-42CF-96D6-71A930DF97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48B4CD-76C5-4B13-97EE-C0D71A7ED4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713CCC-2494-4B5F-8A53-36B420FDEE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DF0EF8B-3E0C-4F30-AC00-314C8DEA88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4315CE-7E0A-4644-836B-A95CA410BF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F9C9AE-4C70-468F-A9C3-8DB22C3C27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88F150-6C13-47F4-AC2B-908E196BB5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0FFAB6-54EC-40C9-B79A-E5C35A1C9E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3CF734-4CB7-4E2D-826C-9645CC6749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AA66F2-6E72-4286-BD20-4E461613E5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650CCD-659C-4BE7-8633-99061B6063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657431-FED3-4559-B8D8-C605A5F349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2707A3-9F33-4424-BD55-F6EBB44CE1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