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BE3B-C7DB-4FB2-9FEC-1E5722C24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A252-21C2-42CC-A68B-9471B817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A182-8132-45E3-AFAD-5578BF4B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5AB0-7462-4683-8A29-F6ADE2B3E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A49CB-2508-40F5-8A17-1CF18B050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94A57-BABA-4BB9-9660-2B17AE3ED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D6D4B-0D44-446F-92C6-DC8693BF6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B57D8-828A-4314-9DA7-1E351E6A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031BC-3E59-4E6E-B496-08C59D440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03E92-23BA-4605-AAFB-A64BB2C1C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BA6EB-99CB-4D25-B34B-ABBABD222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9A94-AE19-4765-8A73-514685284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915B-227C-403E-9F5A-EB183E3CF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C97E-753F-4FF2-8E56-82E8E55E3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A3E9E-1D9C-45EF-9893-AC4ABBCB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D483A-06B7-4170-9F61-DD95378D6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EA8BB-9DFC-4FFC-9F79-C05543DEF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F3EA1-56A4-42C4-AE6E-BA78547C4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2F60-0150-424E-95D4-BAF4DF81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8E2D-D7B7-4EDC-91E1-10CA38B2A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A718-3BDE-41D8-A6DB-7F0B0B19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4D1E8-A346-4E6B-A578-48BC46F2D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B721-4D6C-4EE0-863B-FFF2806C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2264-5D79-4B2D-8441-7B59287F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28D0-9F9E-46C8-8E0D-5931D16B4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140C-F7B4-4136-BD31-2FA94BE1327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8953-8B11-4A0E-ADE6-A53249AE87B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A59BF8DE-F51B-4BC7-A7E6-ACEF2A393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8344D6-7B04-4AE6-B7E4-CC45CE7C76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20C0CA-AED9-4876-9F11-47EEB3379F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A0306C-C1EA-4F33-8900-C0241FBACF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1F9479-B527-4EF4-869F-5BD5154260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BD3AC9-1A5C-422A-880B-3AE73AA88A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1C43B4-3BFD-48AC-BB77-430E252B5F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7DCEE6-0F17-4464-AA1D-A3A8BEAC73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8A102A-B256-4069-B165-CE7FC6D46F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78F0AB-0694-4D95-86DF-2DFCFC70C3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C3353D-0677-4BF1-91FC-8FE25F500A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F21F12-F9D6-4085-A16D-0F36C256BA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A571C9-1CA5-43CF-A475-8B381E7C74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CD1CF5-499E-43DE-9F0B-310B5CF292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35F1F7-5481-4263-9FBA-251DA2F34A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0920F9-DF5A-47DB-97FF-C7956EE4FE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B2A9B3-762A-4DD8-A4A2-4926DA48CA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6E6B2C-A5F0-4F80-8D3E-BB4B8CE47F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05FD18-4E17-4845-80A0-8272B67D2E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C919D1-65CD-4C2D-8476-CB1E23998D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9A7271-C1C6-41AB-BFE4-AAFFBD3A62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EB9041-9A2B-4A91-8855-CE4A53014D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D2AF57-B3E9-49BE-BC10-995097E669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5BA88FF-6460-4A6C-A781-5791F5222C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B76A72-94FA-43D7-8D2F-67C985653A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BCB115-618B-4E2F-A1B4-310C853A49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BDF5D8-FC2C-40F1-AAA6-CB0961A4C8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AEF94F-854C-47AF-A077-7ED05A9739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3099DA-92AC-4D65-A525-0DD54AEF03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8529D6-DC82-4495-9026-030EF9BFFF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06EA96-C6D0-4F9C-B28D-ED7F1D30FF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7DAE980-195D-47FB-A429-938429E7E7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E559D97-8731-44D6-AA23-6009C7FB52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E86036-9C9A-4F0F-B16E-ABA88AD414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9A8F04-3018-4446-A346-1648957510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AB6155-4E96-4FB6-B13A-FD933F54A3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44A967-BAE3-46C6-9086-6D06DD7A7B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B452CB-E86B-4951-94F1-7AFD0DF95D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FBF23F-5CFA-42F9-815C-9B515A09CE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258DCC-2C7C-452A-9082-D4A6715EC4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8442F6-5BDE-418C-8A2F-604E2362E7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B3595F-FD78-47CE-B8CF-5FE4EC06A8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F3A0C8-E151-4B2E-A5D1-6267729951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362408-F72E-48E4-9424-32D5E6E3AC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EF78F1-8F87-43E1-AEB1-824F667E10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3F68A6-9B5C-4E2A-9A21-EDE5FC5299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03D71AD-47D5-48E6-AAD9-FC1A30A169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165374E-A532-47CB-9778-A401FE1182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A5F390E-8CE2-41EF-A8C8-F8C85C47BC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914EF4D-F107-4396-95F7-26B65AEC4B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527CAB-35B8-4F0C-8057-BD8BB6DFFB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C55BB7-8CA0-4ADB-8949-0D365FACDB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31FBFA-3C7A-4F56-836A-30E8D9C8E0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6FE0ED-55ED-4C7F-A2EC-D703151624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87E8AD-A899-49E0-83C0-A7FFF143F0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FF8628-ED12-4EE6-A313-39DA75DDD8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6806B8-D1D0-473A-AE82-E9D4F97263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8ACD6F-3732-4C25-B30D-6D944C212E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3E7F1F8-93EB-4171-9124-2F957F6BC3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6CD947-1104-4812-8CB7-B2FF0D0BBD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CFBDFF3-3A0B-47A3-928C-262527927D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0DC06D-02AE-4AD0-B835-A882BE0466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AA5B37-6AD0-4371-831F-E891B8E40B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3BEDED-B335-43AB-A246-3987AD5F8B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AC2AD1-4B3F-4D26-A61A-E11F59FD4F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7D6A23-E9A5-4E09-94C6-6D58FD6B05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DD4D85F-6BC0-468F-9C33-C31405BFDD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38D60B-BE57-437C-B2BE-A91A588982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D22749E-8EE8-47C9-A931-0A07CCEAC6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612D6B-FF0B-4A96-816B-6C61824148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7CC048-B158-45CA-8B99-9E560B3003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DC6A592-47E7-4759-8079-573DF4DC43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8D04FF-1A58-443B-B6C2-939E1C92A5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474FFF5-27A8-4F1B-B2A7-9C613D791F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97D6F6-9712-42E2-8F38-7D661A242F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CEC423-6E20-4BDC-99D9-F413F1BC29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4146BC-6A93-4777-8358-FB2421F18D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91CA5D-195F-46E3-9C9C-E759700894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091BC5-3CBD-45DA-BE42-31510EEFB9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166C16-7881-4B98-8C52-ABFB80A064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106CAF-D9B4-4CA5-8926-6A85B8C4FD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70B744-1735-48D5-96FC-B65D883462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D215AA-FD31-4C4B-ACB3-8E9BB05AFB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627F36-32E5-41D1-ABBC-88BF98BD90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631198-FD23-4BEA-B7F9-4D2F972EB2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288877-8F07-4CA2-B517-44476B06C8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5E29CA-48C7-420B-816A-66A7426437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94BAFB-34A3-4783-AB11-A8D0DA3285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6536060-369B-4F8C-9DEE-E455A5F92A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039159-B0AA-40F8-994C-4831ED2273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47B16F-C2FC-4D52-AB1A-A8BBEF2223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E331092-C1DC-4188-96ED-1578F22074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BFE04A-03B9-477E-88D0-5B52066F62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56968D-8BBD-4086-BD44-887ED50A82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7A94E3-1C02-4B42-854B-D6F17E72D8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2B95855-58DD-403F-BA63-844CA1F0F3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0D4564-B02E-47F9-B455-295A718A13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CD38CB-CA63-4AE9-88F6-9DAE32729C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9AF97B-D369-4D74-AE52-B2F505BA26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E9A467-A845-44B1-9489-DDC1AABC49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6B5551-ACDB-46BE-87A8-4AFD49EF43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AD112D-52D5-4B94-B375-7DAE4ABDC5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813E40-B392-4307-BFAE-B72185B5AF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CFD2D3-D5C9-4302-9F4B-0A8A0CAA51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C5CA800-882F-4077-B406-56A3176D9D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D33F03-650D-4A9C-B8AF-9109EB19BC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A3D413-AB00-4EE1-A805-D785EC64B7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3EE2C9-0F5E-46C0-9F31-0B7A34B3B4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73FF8C-7FE4-43C2-B4F3-8DDB3917D3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6E6090-08B1-4619-9E36-3807194C7B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F61C09-3FF9-4204-8CDA-EBAAB45BBC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98E628-B94A-4F74-9334-FC12C5BD6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2916B9-D4A7-4474-9FC4-F1034047EA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69DC26-DA72-4B37-AE03-6F50BADC10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5E833B-2AE4-4A11-85DC-201C9FC96D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BE66D0-6BCB-4FFB-96A5-D5732F3EDF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35688B-CDAB-40B8-AA2E-B5860C7EE9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175953-3EE3-475D-9F31-9445A3684C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4AA38C-5B61-46D4-ACCA-8F49B9D00D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FF333F-F71C-426A-9224-C7B7DC43C8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7E89E1-1863-4B06-ABBE-B988E4E7D9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DE7642-676C-407B-A28B-94963536B7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C99629-597C-4B22-A83D-8133724B3E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100052-20ED-495F-A659-83EF416164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637431-9F64-404E-8299-E512AEEB9E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A02DFF-10CD-40CE-B601-95A91B37CA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DA67D-648E-42C3-9E76-1B01BFAA2A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676BF5-DE89-4F34-B264-E882F02C65C7}"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673723-8EED-4F52-8436-BA2D3FABB171}"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F1E55C-F18C-4446-BC93-764536AB1584}"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E632CF-5218-477E-96ED-771C874076D0}"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6B0962-C520-40AC-BC15-62D227B31AEC}"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491A051-0F5A-4A46-A660-1256F9EC3906}"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CCC360-7436-464C-936C-11C605856549}"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B4A53A-3410-474B-AD71-D274DF74B73F}"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21FDD9-BEFA-49D5-949C-EB489FAF8B85}"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0316FE-6539-4BAE-AAD7-F1340FF96C3D}"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C8EBB0D1-3642-43E3-B5D1-B57DC7D7715C}"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236FD0-2816-4841-AF71-EE26B15EEAEC}"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773A0E-8CEA-424A-B5AF-6F18FBB9E8A8}"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CC1945-35CE-4351-9868-95BD5BEC2B3E}"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E72CBD-DFDB-47B1-9726-80389F282FEF}"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996BD3-2D89-4581-A1EE-00831D2F0A17}"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8AD0EB-5CBB-4D9E-BA2F-ACF76B2BE606}"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3DDFF0-CD0E-45ED-B0C7-05F40E096916}"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A825C8-581D-4068-9A47-29067AA99DD7}"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E59F3F-37B3-4F73-A095-5425C7F00F9F}"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ADDC52-ED9C-415C-982D-87CF6A0B09B2}"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419285-9CBE-4950-9807-A93C713F3174}"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DF3BE7-BEB7-44BE-B249-66CEFC9F164C}"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40D0C8-00F4-465C-AE47-78F35FF9D5D0}"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007288-5074-4412-A43D-EC645A5F63ED}"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DF0A513-41DC-40E7-8138-030853328C77}"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4A1E19D-265B-4C15-B6F4-934EB8ECD417}"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D1C5C5-A8FB-43C5-B3F4-F61777131970}"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7BE801-3DD8-47B2-9769-8FC4FB65D1B2}"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8A3D43-8F64-41A0-A550-6F3B16D57907}"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26431BC-EF57-4169-8142-8B4DCF90BDFA}"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5466D3-D024-4E45-B803-9259310CE5F1}"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A009AF-CF4C-4BA6-8CAF-7073C35E5E17}"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313EA3-070C-42D7-95FC-F2A642EC3F59}"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F46BEB-6243-495D-8268-AD618F8DA4BE}"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E0876E-E2A0-4569-BD5E-10E353499197}"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66DA1E-59F4-469E-880D-84EB754402BE}"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867EB3-F738-4AE9-B202-7CE5EEF7CFDF}"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D48810-3E1F-483E-9518-06942EC606AF}"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968602-0652-40FF-8F6B-2F9D9D0B9A50}"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0991E32-F17A-46CF-99E1-5B758709ADEB}"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CCEEC3F-3AC3-41E8-8B4E-63A5F634177F}"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B71F11D-E256-49D5-B9FF-97299717D235}"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A13F24-1ADC-4B66-B458-DBFC0126BCA1}"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359EDE-962B-4119-95A1-FF82F3A6980D}"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943E38-FDB7-4EC0-AFA9-F89D6A81C8D4}"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C75305-2813-468A-A4BC-A98C98AD8E6A}"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B25F47-F789-4E64-B3F0-2DEAF48F75EF}"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615320-8449-4AAC-AF16-702D6E3D2560}"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56D1DF-B70D-4273-A650-F6947D98F6BC}"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E4640B0-0BD1-4BE4-89D9-8BDD901FE652}"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B04378-FEDE-4CE9-890F-1456DEAE7204}"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579713-468E-43FA-BD7D-55D5F7AD24F3}"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E0A66DC-8441-43D9-AD17-4FCE05C84AD7}"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95D5BE-F1BB-41FE-B516-8D5BC5A3AE09}"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A3E762-B939-4AD9-BA14-18D4EB28D8F8}"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B82969-9C58-4B6C-9450-990F15AB79A7}"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5BCD80-455D-4981-808D-2658BB5F22E2}"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2FD2B9-602F-4310-9982-5B10F9F2A92C}"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DD70D4-5B9C-4E5C-870D-C90554851CB4}"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F24B07-0A7F-4035-BE1E-8FF9610B0439}"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BDEAEB-2169-46A2-BD21-A503E75F939E}"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993866-9A0B-4968-A9D5-62ACE8463964}"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74E2AB-BED5-4AA9-B116-94C8807CD94B}"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DAA3B6-B2AB-46AC-8AC6-7BDC1E844F98}"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7924C6-52EA-4179-A2AC-610F726A334B}"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A4B893-E98F-4786-A812-19CFC4940F0D}"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1F43BB-8BB8-4DF0-8439-060B070E4B4E}"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961289-0B11-4FF4-94F9-B89810DA8AC2}"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9B0F13-B82D-457A-ADD8-87664444A467}"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D9BC2F-8DC8-48BA-8751-2FCB2AE4C212}"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43D4C1-B0CD-470C-A480-F062E1ED3ED1}"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E40D57-DF43-475E-9946-25E2ECE0E9B4}"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1140AB-51D2-479A-AEB7-580F862E4DFB}"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72FD2C-F69F-4566-BE2E-C0912898B446}"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30A4F9-C78F-4972-9CE3-6FB8AE98371D}"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016231-76CF-4AAB-B9B9-7AA62580947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76C7AD-D5E6-44CE-9754-698AF8478E3D}"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3062E5-4CB3-4006-A1FA-8AF57BB86977}"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4E8210-E330-4D29-A6CB-B38D33EB0DD4}"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54D671-3F8E-4C1B-8B4C-7C42E8ED92A1}"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AAD5238D-1FAC-41DC-8A1D-21D6AB4462A5}"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7B34FB-2DB3-466C-9F0F-AE0D6394A80F}"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A7ABB6-A1AA-48B3-9215-F0E977F69833}"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A0D298-BDC9-458E-9995-3BB92104A84F}"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081DEF0-3936-4A87-AA23-9F8A835E5780}"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8C51B5-35B3-4C06-A7D1-1384C30CC8A8}"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109016-D0C0-4F69-B6CE-B6A1DA2BCBB8}"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819CA00-1542-4BD1-942A-CE8488F82D0B}"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3F1065-E85A-45BC-921B-43FF7D8B8100}"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706EC5-2ECD-4378-B694-B26BEC780065}"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A67F50-BF6F-44BE-A1DA-64B84D5C9181}"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7D2559-D8F3-47BF-B63C-36B071810ADB}"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E6E45E-51CE-4303-84D0-D5FC969BC36B}"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B8B62B-28A3-4A76-B3A0-B8E5D2F97CF6}"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94E588-6EA6-4A16-BBD1-7FA69D7D3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8D987D-25C6-4437-8D10-20C3428001E0}"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957D75-78CC-42C7-BBE4-96C11DFC9FEF}"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A873917-237F-4874-913F-B0752E1A3EF6}"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60F2D95-D59A-4AA1-84EE-A833F8EF3C17}"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E980BD1-9C75-4FD0-A1B5-C52605A3ACD9}"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6D69D3-0E84-4884-B6D7-2632425B385E}"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5EF7C2-E050-4B83-A51A-548A64BD9A24}"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2D3CDE-F5FF-43ED-A897-EBF0AE45CD95}"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BAC04D-6064-41EE-8BF9-5CE34C8F3489}"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B049997-AD9D-42AA-9E1D-0968D0248F2E}"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56FA7C-1CC6-4232-8380-EF6D09EFF06E}"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7857D8-54C5-4253-931D-3035A6815DBD}"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EB3223-E8BC-469A-B601-1FD68CC153F5}"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269C1D-8E70-44FA-A27A-3C79ED679168}"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E8AC957-8964-450C-A581-FF1B342D7016}"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935FC5-ECDB-48F4-BDAA-AF4CA9B51AB1}"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F0A2EC4-7855-4814-985B-A1353DE3D986}"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C95A16-7E68-4135-B0D1-697396785D4A}"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FC7B53-17E0-4606-9998-77BAEB826BF6}"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6D62C6-549F-4F1B-AB15-E2D48BD39D40}"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72A11D-2D48-4925-82C0-A903BE7C61EB}"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6BB201-094A-42D0-AE8A-0894AA02F8AC}"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49F8CC-6209-4386-AF11-17676ACC79ED}"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BCAE7B-78B9-44FA-A013-9884370F414E}"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52AA44-2DA5-49CF-A66B-AEB333811188}"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F73008-C05D-4E1E-9002-379C4F46C206}"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9399552-9C0A-4708-8BA1-BA875BD3092D}"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D98B89C-8373-4331-8A39-A940395DAAFE}"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17BE2A3-34FF-48F5-A1AE-3789A8BEB397}"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91BA38-124E-4435-91DC-FD312BC3600A}"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9CFDD3-1C41-4BCA-85F0-EA4B8ED89DCE}"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DBF4E6-DD32-4146-9905-2A6F9D2AF5FA}"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9585024-17C8-4326-886D-A7AE229113E5}"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C1D802-C813-43C9-994D-CCDDAA3872D6}"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C3B770-F7B8-4CCA-A765-55B66BAF85E1}"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476B3EC-2FBB-4546-B503-027ECC5EFD7D}"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54E055-7B81-461C-BDFC-A1806F282EEB}"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FE4674-ACF2-4BED-B18E-1CC539309AB3}"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0F7699-7B21-4CC2-98D3-033DDA3ADC6E}"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A41C59-CE70-4143-9616-0B2743085E77}"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13F47A-C668-434B-92A3-F356B4542176}"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0FDF93-BB23-41FD-96F5-451400B76E54}"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485D96-6A2E-4466-A587-6F3E68A6DB33}"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2C30EF-4FDD-43F9-BECA-260B2C33F7CB}"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1D6A1D-5C19-4A81-A9D5-41227B07A1C8}"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B42367-5F89-40A4-9D03-FDA37F9C4EF0}"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9C443E7-11D7-42D2-BAAB-D0AD8BF675A3}"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784A15-27FA-4AE0-BCFC-1215725877A9}"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785A5C7-215D-4736-AA1A-BA81A6C31154}"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2AAA4B-5C75-4059-9EF1-5B44C3850CB9}"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792BA6E-7893-43CD-91B6-220B473FCDB9}"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4F9D9FA-B5E6-43C6-87F8-384C54D6182E}"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915EE9-D7D0-416F-B6CC-178F840BBC03}"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D7F673-17BC-4E6B-BBEA-1177DE4620D5}"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3FDD3D-E3F6-447F-9E3D-C63AF3FD6489}"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309933-0C24-4B5D-83E9-CB23F48ECD02}"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EEE2330-902A-4E14-B5A1-2754BD461F7F}"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78CE8F3-1C61-4144-9DC7-8FF8EAFCE20A}"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D4F410-DA14-41BB-A602-75147886194D}"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258BA9-BD76-4FD7-A560-DC3439D1164E}"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832BCF-F354-41B2-A2B4-9E355D469F82}"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817ACD2-32AE-499C-9FC4-D269014EC528}"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8D092F-783C-4CDE-82A2-9161A1B0E275}"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BB180D-ECF9-4079-961B-D525F6B7CA2A}"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3FDF26-4E9C-419E-85E4-9152EDFF41D1}"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098AC8-EB60-41B6-AA8C-CFA9F0E3BC8C}"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E42D9F-454C-4EE1-BEBA-C6C10ED0072F}"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6C5F89-2EE0-489D-84DD-0E80A509B1ED}"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C4A4243D-3B53-43B7-A85F-4881949E384C}"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EB274D-35D2-4BEA-B073-929D1C49EDEA}"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C677B0-A8C4-4F8D-A2A9-1678B3CAE9CB}"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7EA301-19FA-4350-8BFE-35E30D47A389}"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14512D-1C86-48A5-905F-3B1973683605}"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FFD8F05-DBEB-4D02-9F71-4757353C9F06}"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6A2448D-7D1C-4FDA-B9FA-347DAD18B07B}"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A0AEE1-F545-4A54-A3C6-5DDACDF7C20E}"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31A920-F89C-4CC7-8BFA-D29741E6B4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651866-ACEE-4268-8B90-6C93617EC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3E63D5-6564-408D-8102-6FFE4C048B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9F6097-152A-4E96-880D-B21967FCE3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28CFFD-7A36-48BF-97BC-CEDB02E4DF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206BAD-4D91-4F9B-8C82-FE8D77C7B9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3304C5-06CA-44AB-9B5F-0B392C5F3E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AC493A-8C2B-41E4-8D65-00D5662AC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7730FD-5022-442C-BE4B-D0D5463450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6553C6-10FD-4338-90A7-1D3BD4A2EF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9418168-BE33-4B00-AE7D-B6E6BC3909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F19B88-16F2-4597-A47C-3F43066211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318DB0-E4B2-4F89-AA8B-33A88BCB6E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C968DB-2381-405C-8790-99818292C5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AFFE2F-8490-4408-8D93-B1DFD4A574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B07CDB-9DA8-4605-9DE9-E27380E1B5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0CC3F82-6BC4-4DDC-AFCE-5B82C301C6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8BBFE8-8061-4959-A033-56E66B38AF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5FB374-F983-47BA-8E4E-D7DFB1190B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271F4C-3CA4-4578-BC28-FEF9779EDC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128697-5C5F-4703-AFE4-6EE95A9FA5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2FD0E5-8537-473F-9D06-3C3AD74DB1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0C26E9-8721-420E-B755-556DB93F64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8D0695-C312-4799-B994-637F891C4C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213E7B-84B5-427C-A6FA-E68CFDA3DB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8F3150-7025-424A-BE36-BBC82D23D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3D09E-5FD9-4462-8B53-B0F5669424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B4500B-54ED-4454-832B-3850724F39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F0B987-C5D2-43F3-BC0D-90B24A274A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B0B0EA-A677-4F39-8895-6F8098EF35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CE63F1-2F53-40ED-888C-57648A6513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545BBC-FA61-464B-8A9C-9C65B352B3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E412F9-B0F2-4D3C-B0CA-5CD0D7CF3C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EF6D60-E31E-4634-B0DF-9EE28F3146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CDCFB5-65B5-4664-A7E0-991243EF33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9278BD4-802D-44F4-9DA7-0A24836754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BE6D3B-3DAA-47A4-B841-599E5F35FE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401CF4-73E6-4509-B17E-21F8EA6428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D0FA5F4-8A21-4FA2-B9F5-D2320D7A0B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C22383-AA0A-4B74-8911-6215900DC1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41105A7-F8C5-4D38-BBE9-D4A772F57C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7EA667F-0901-4179-8C7F-856F6C97B0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9D285E-0159-4643-89A1-53B520866C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B902B84-D9DE-42B4-80CD-C17C867695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022F79-8E1F-469E-BE8B-0166FA2EFA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CEE1894-90CD-40D8-AB0E-8F5D40DD7E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15BEA6-29E5-442D-96DC-681B7D77E8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C42E98-2ED3-4001-BD74-BDDEFD058C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DD6F22-8544-4730-AB85-A92C534E02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DA46C6-F512-42EB-9499-505893688D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18B22D-34CE-47FE-AF2F-D5F56E26E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B3BF57-A4FC-40EB-8FA0-303BAE5B8F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5739A27-4078-4DC6-A348-39335F6777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03F565D-AA78-46C8-90C6-ADA8681DB9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846848-2880-4481-9B8C-2864984D93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40EF3C-810C-42C6-AE9C-C44489C43C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A12F4F-22C9-4556-87BC-E4A09FC18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134798-4094-4566-8F6E-9558CB1422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61A4DB-99D2-4283-96A4-99E6B0E6FA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10B7A67-E8CE-40F2-A18B-3A4EE02BA5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323C6F-06BD-4A3F-816C-6A16DED505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BA89ED-0BB3-425C-8B6B-B483BB70D8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889978-24B5-44EC-9F97-90CB87D7C2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09F691-0F55-4030-85F4-F1AE7360CF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619A45-EEF3-4164-9ACF-3E7660EA40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114CDA-3634-4CA6-B8F9-1318E0501C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CB21A3-E396-4473-92C4-11D909ACA3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776D0B-5514-4916-B73A-1A62A5BF36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424F56-A647-4751-9B76-7628DA824D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