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933E-A795-48BB-840F-97C144F84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A8DEB-A623-4F26-A6B9-535045277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30D0D-B723-4B71-ACBE-23256E93E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4B543-8463-4AE0-BDD9-FAE07F26F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CEB4A-D00E-474F-9D4F-77DD62BA7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BECE54-9745-4FD9-B6A9-11BB80CFA8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C1E3B-A8FC-4240-B208-2B47D4BBD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B47C6-D4B0-4437-BC5A-762154308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2DC89-376C-41C8-AD5A-90425FA4C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93546-DFF3-4DC8-8277-531FBA82B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612D1-2C40-4CAA-9895-28C700279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FA7BE-CFC0-434B-A9B1-9E9A20DFD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25E62-A026-451D-8652-D0CE18C83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9DC6D-6B0B-483E-ACC6-B6C575E80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7529F-F95B-40B8-AFD7-812067CFB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622E7-BEE2-4043-B7C5-8971E9443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82A94-FE6E-4DE7-9121-C7DA16B16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E137B-E84A-4882-9866-FD1E5448E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0993C-BC9B-40C2-A94A-84F3DACB7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38C83-7427-45FC-B25C-15D3F7040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86241-885F-430C-8C43-7D2661ACA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00F63-9D76-41D0-B08B-5581E1195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76296-5D1D-4CDA-B33A-F800D7F3A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E3B0F-7D24-45E2-926E-0D525E272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FC9D2-7BDB-4D88-854E-B432075CD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B973-CD8D-43D5-B682-3D74247CED5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B35C-6B1E-409B-B29A-911E05970F54}"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E0C14775-A7C8-4FA6-9421-41571AF9D6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2B31CD-ECDA-4E66-BBCC-C5A135EA5A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86F12E-7B2B-4CF9-A7A0-1255300155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9B8D40-8CC7-4A32-9B0F-DB22B6FA49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B8CECC-DF27-4BB3-AE5B-0B3E53781C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5F7AF9-A370-4066-8E3F-C78A98BEE3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CFEFD9-3A5E-432B-9D51-2F252D609F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053BBC-C908-42F9-8B15-3EA4D3C134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4A6239-F416-4313-8DBA-25E8A588688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44F666-D8C4-4E98-B367-093750C3015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708846-9A80-438D-86FE-462FAF3CA06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ECBF933-D1E0-41B4-BDDA-ED6BF1983CF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D13C81-5D28-4F05-8C6D-ACB0D7B78DA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AEBF3C-9A1B-4353-BBA2-0807269051F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344D46-88B9-49A6-9E9A-939AF0D6078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69C9AE-3AD9-42C3-8886-D32E6D7E5EE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46DD6F-22F4-49E8-BE63-59335212D49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7E2867F-6AE4-4344-A823-9372B2B13E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56544F-9749-4CB4-843F-A7B5AEC58F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64621A-A097-4DCD-9DF8-D39DC509CB6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6695B8-A37A-464D-9357-FC411467242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94F8B30-C33E-403D-8F9A-BCBDD80E71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6DA26F-8F0C-4CBA-A136-EFEDBA6A5D1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7206C3E-9FDA-4C74-8C96-420E9A84AAE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2D684F8-8696-4756-B33C-299746F59F9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EDA279-FCB6-424B-B584-926CD50DDA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BB0469-387E-48EC-8D45-416873B5DE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130792-DEFF-4006-85F1-70EC3F755F7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7CB9D3B-55A4-4C3F-A6D7-121856DAC9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C447E9-764B-4387-A2FC-4B07D378BC2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156CBC-CBDC-41F5-9787-096A7E56F85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62A1542-1191-408C-A9C7-8DBA42242DC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0FB33BA-D071-439E-9712-D73951C9667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84DCC9-B194-4C4D-80A9-0C03C3CC6D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5CDAC8-B019-464E-9C4F-9C89F79254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3B4280-E94E-48C7-926C-A581C022FC8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14456B-3A04-4B8A-B77E-F0A1218413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622179-3855-4E35-B640-42CCFE58EA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96732E-532D-4B96-8CC5-51B56A4EF8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D0C81E-321F-49EA-AD0D-568FF436997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9FC376-382A-44BA-A65C-4BADE50DD26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844D02-FA1E-429D-9CFA-6C8971C3D0E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FE543A-859C-4F0C-A91D-EF2C835C5DA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773F06-407B-4CD2-90EF-1B784B821E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9D711B-B5A1-4E94-9335-FEBC493CF6C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0BF8BB-D518-4437-9F39-BABCB14E5CD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93B238A-03E0-4EA9-8B9E-63ADB145108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2807163-BB41-467A-A8BA-859FB3BD8F8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A5F5169-1284-4906-8814-80023C499E4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892E5FC-C3CA-4496-899C-CC329F92E43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02FC33-0178-4A29-9E5B-653909D6DAE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368CD2-9F19-450C-AA72-86C5EBBF49B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9A40FD4-89A4-4399-93E9-1E01F8EE65A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26632B-E32F-47FD-B35E-D6D605C266F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B71F1B-17D6-4A8B-B4D5-C19AD90EEA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CB538B-702B-4976-B4A0-EAE2167328B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BE85B9-761F-43AA-9587-7F85768BD2E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39017D-08B4-42EF-911E-063389BB0FD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E862FF6-B402-43CC-951B-AAC4982433A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C86F5C-2EE6-4863-AA86-C6492A5DC71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C303DB6-9EE5-4F90-AE5F-90F8F392F2F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3992F9-543E-464B-AE86-A2E4F64C4C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498E15-2135-416E-B967-903C77AA2B7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CC42210-8CB4-4FA8-8F6A-0D0FD953E9B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70956B-3CCB-436C-A0E9-E8537A1E36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ADDEFD-8CDE-4AAA-BE89-38889AA409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7A091D8-246C-4FCF-90FE-14CF2472F2D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8343BF-3A1A-484A-BC20-83D91AB4D37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7293DD4-BB6C-43FD-84D6-948B2761DBA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D1C396-89AC-49FC-B3D5-282D9CDCFE2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DB5388-03BC-43E5-ADC5-93E1DBC1F3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5CB47C72-537A-4DAE-A08C-7C3813CE13E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B78FDB-60F4-4E91-BA29-EFC9E22948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3B60C09-0B3E-4880-99D4-43605B552CB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BEC1C0-F976-4429-B78D-5B7F56D0FFB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F7DE27-A48B-4B7E-AC37-23B3DC6E9CC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9BE767-A328-4AC8-9617-3ADDBDAFFBF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F2C124-293A-4D09-A2A8-BD19DCE4EAD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0F439A5-DD72-4A36-8726-5166E950E1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CFCDD8-E3F4-476B-95B6-B1BB61DFAF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AA51F0C-B122-4E61-A06D-30FFCE51CEA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10A209-8BCF-463A-A209-083BE52E044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07B8463-ECBA-4C81-983B-1B26904FB95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563EE9D-D99F-4F41-A5DE-DCD98974535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FCFB39A-E832-4DD4-A846-FDFCDDE3E38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036D21-60B5-44FC-BA4E-7E69B6007E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368C4B-03B1-4078-93C6-8EBC5BBB339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FF7284-AD52-4686-A6A9-026EAE6862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187005A-73F2-4342-AA99-04878C5C2A0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1DDF9B-26AF-4FD5-B147-90A5192BF16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C0F6FE-5BD0-48F5-8077-02538F499D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A18F697-EE7B-4E7C-B9FC-A69E74A0F91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B406E4B-CEDD-4461-9D23-399D89791A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A83344-6F3B-4CFB-A902-ED4FEDEAC2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F152BA-1C05-45BA-AD40-BD43E6B6CB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8E8C065-14B5-4BD5-9EE0-E0D3150C4E2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E8E776-CC8A-4410-8824-A609DD6FF0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B599A8-3933-49B2-9E7B-64FC1E3730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8BD0B9-B850-4C71-B14E-929BEBF9B08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A2741C-4B76-4A07-A220-6E2645A3161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08E943-40A5-4D63-ABD6-C6637E93BBC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241484-36AA-429D-B5DD-8471184B7B9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29CA864-5BEE-4C0A-B7DC-A24C67B5D00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40883E0-043E-4F7D-90CD-7ADBCED8302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C9983BC-1EA2-4070-9BF9-47272EEB1AF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46DB6D-D738-4530-BDCE-CD669CFF0EC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84801A-6489-47C1-882C-AA35D3A943E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D1B35E-D6AF-4149-90E0-70F705C83FD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55C155-AB58-4BF9-AFF8-A2D20FBD65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C1C5D1-BDA3-4F73-8A47-B004ADFA1B1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716800-AC67-4EE6-A59D-DE55398C295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F14DF0-CCF1-4B88-BCA4-ED7DED8501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A2BFDC-7023-4CC7-8BB8-28D1FD8154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F9DA17-A40E-46D6-843C-916E1054E42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85F946-CED5-4E54-8D17-AEC032C01C0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5651BE1-80FD-41A6-84B6-11A111A9EA2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631CBA-AC26-4852-B821-50442950D3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8E12BA-3BA2-4EAC-947D-A3EB4B4B207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78CD4C6-B407-4CE7-8A7D-C1C6003772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4874C6-86A3-4329-B309-DEDBBC74927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5DCD5F-210D-4921-9ACD-676B5131AFC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F50B61-2795-4FB2-9B8D-3CC1C940715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3666CC-31BC-4987-B00B-095A7ADF876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A82324-CF78-4154-B0A3-CB73DFA7A8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66337F-3CC2-43E0-953C-BE80438B5AC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C98EF2-43DB-43C2-9A2F-D52A8DCA5E0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945B7A-4D32-4AA4-BE2D-A0E9C95DA3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CDC5B3-86D4-40D8-A5FB-9E738689F6B1}"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408028D-4CD2-474D-98BC-98D80E7F765E}"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421131-3FB4-43D0-95A1-1D85AB5133DF}"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5F36D40-B12D-4B69-84ED-56597DBBE6CE}"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A52F7A-0F05-40A9-AB8F-F722FAA36AA0}"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0F9355E-719A-4DEF-A1C4-A54520D574BE}"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F99016-FDD2-4970-8B23-C6EAC8F06F24}"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BDDB7C-5DD5-49E8-B2D1-9C7D4C93EDAC}"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E9DF22-98A2-4A56-957C-0B6526FCB014}"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CFC515-9051-4737-8240-8664FA3C54AB}"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227B1400-944C-496C-9D1D-871EA7128A6B}"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01EB83-F630-4CCE-BDB1-CF434DCA85B6}"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6077FD-4746-455D-BFD5-AC934E355F5F}"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F86775-4872-4734-AE0B-57DBEDA093DB}"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928B6A-D339-4311-AD11-7ADBCF63F191}"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A2DF23-9CD3-4D71-8814-12145B65F35B}"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D20741-1897-4126-9E2A-9EF10105B98C}"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F9DF0B-2269-43E9-BA20-57979F0B4388}"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7B7A60-00B2-4782-921D-8FB04F534838}"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8407465-57A9-46DA-8503-16C30E794867}"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91C565-767C-4207-BC21-2D8353031D93}"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715D63-3A53-41A3-AD52-AE5CBAAB7323}"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C8460D-8ED0-46EA-91EA-CEF30D27CA1D}"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D15DA6-8807-4AFD-AD85-E06AABC3B27C}"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FFE685-57F4-4001-90DA-76C6B172498D}"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06898CC-8421-40F0-8AA7-2D92DF8AE138}"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4FE86DB-E6E2-4100-88C0-024C2AF0EB1B}"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6F147E-8CBE-470E-ABD5-3E603F67B948}"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6DD8C4-3345-46FB-BD00-356B1ADFFBC1}"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2C51C5-6822-41F3-BB80-8AB598AF068E}"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91A2A37-5C52-4032-8956-6868CFC432BB}"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811A173-1391-4830-8A65-088CE3A3094C}"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6C574E9-14B1-4FFA-817B-54A8DD7B6ADF}"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963D20-3A95-4FA0-BB88-86D60303D79F}"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248674-7758-4681-898F-6CB2F79128A5}"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E5D0E49-617D-48F5-96DD-6E74359E199A}"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D65126-49FE-4FCA-8E10-F9BD20C5A8D3}"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C5A45D-D8A4-4D52-8039-DF47094FE7D5}"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3053A8-E6A5-43B2-87D4-C1568CB026C6}"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F87BB98-9562-4A10-B1CB-DB150B8A60E6}"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5C3A251-F2FE-4AFB-8289-CB9C37A619EB}"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E2D3806-42F1-4527-968C-864B0A6FA931}"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682C2758-DD04-49A2-9B2F-FDC352399818}"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237064-008A-4A62-A02C-14F5E884A442}"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816BD7D-6D03-477C-A9E5-E6D89AF88996}"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DBE662-B73F-44C2-A208-77D6E132C594}"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484B0A-3190-4BD7-B349-97FCA1BEC8AE}"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F2DA63-6C23-4DE5-870D-F04AF13F3D65}"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845F17-7220-4D3F-A9C9-ECA349F6A438}"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4FEC89-7BB5-4499-AE15-43013F39E1AC}"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AFA1333-C5CC-42BA-83C3-53432588A496}"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013A62-0D90-4037-AFD0-E51D37A1F5FA}"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0CA655-D7F9-4314-A954-5073C8743D54}"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43FF8EA-5AB7-4013-A71C-6674492FD306}"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72FAF7-1A59-4217-91A3-73007AB091C2}"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59666FD-226A-4A57-808A-9AD737F67D5B}"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CCC182E-1A86-4C42-90CC-21AC0437B96F}"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09E36D9-5ED9-417A-90C8-955DE9D98B8B}"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8999E18-0E28-4ECD-B12F-A154162D4AB7}"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F01E7E1-D49E-4C3E-BFB2-8535E8F14B8E}"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6DFAA62-EC63-4ABB-9F0D-9D983756BA5B}"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B6CC1C-E311-4C74-B4DD-8F8339DF1DC8}"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694906-FDC8-41A3-8CB1-5C1C6EEADFC9}"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8A9943-9B53-43FD-A0A9-0C196710045F}"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F1D903-BB08-48BA-9461-E907D4BFF7A0}"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CF7B37-F5EC-40FC-9238-F151128F6728}"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BA3D07-421B-4347-8A85-8B88A1BB0E4F}"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8AC788-0984-4065-B45F-7FCD6693DCEE}"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E9C363-26E9-4605-AEED-7888DDDB5DD9}"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7AD2C15-8101-4B30-B9AE-DAED079F8B7C}"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9E1FEF2-0AF0-4053-8EBC-5550C853D015}"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A9EE7B-D664-4883-8409-2A85A8305332}"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AF4AC2-AD1C-48B9-896A-C2D750F2FDB2}"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8709911-6B4D-4BED-88E4-2F6ED5429BDB}"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743ABB5-6ECB-4A87-9324-49B680943E1F}"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68577C-AE99-4511-8C9D-C775DA96018E}"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ED1671-A290-4B8F-84B3-DC2F31590B4E}"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97BD616-76FC-4747-813C-ECBF8DF883EB}"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44F3C3-9EA5-4BCF-B25D-3C95A01D112B}"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0BF463A-D0F2-40B6-AD5B-90A29D2266A8}"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813D7B-D63A-42FC-9517-0186EB3AA716}"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5509EB9C-CA97-476C-8D9E-807DF193B5BC}"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8F3D0B-6C6B-4A44-938A-C97CFD970042}"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8D57290-8F56-4770-87DE-3C5FF310195A}"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D0ABB2-D83F-4D34-A483-67A38EF4DADC}"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CDA1394-214E-4E14-9EFC-C7BA5E44542B}"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6E1087B-DE75-45E8-AAA8-F45577E80D93}"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B8483A-4182-4878-9D30-CEBE955DF5FF}"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5BDB8EEB-CEDB-493D-B723-F829827B55DA}"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3C6D70-7911-466A-B255-4134E39EDF72}"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6696EA-B3CA-435D-9483-8BC86FA3C63E}"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386CB8-5155-4E45-8C07-1D420BB07939}"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DB3BE5-64F8-4D8B-A3ED-54F3BD33DD3C}"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7ABE0C-027C-40C5-A080-D96302647814}"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699B03C-D95D-494F-8324-5C20FF97C80D}"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4EE31C-4247-4962-9BBA-5B3CE75ED0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CD1C6D-D09E-4A5F-A7E7-901AF89AC15D}"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C3F4BB-A352-4C86-8F47-CB9883F4B5C5}"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5A1CC63-C44C-4FB2-BD24-F9AFAD1FB7A3}"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A9CEC36-45BE-4A76-97CA-A5810F9FCEF5}"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2589141-792B-46F5-A828-CA6B6DDFA5EA}"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CA002C-6F82-4C48-BBFD-C6BE1CC21FEB}"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18FB76-17B4-44AB-9CD4-4691F1FF0D76}"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73226E-9D8D-4A94-8AAB-9E7EDFFF1433}"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FA28300-0FC0-43A6-AA50-D1BB862D7CBF}"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E3DF45A-6A75-4E86-A90E-9A271BD302CC}"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AA7E95-4368-4C18-B124-9B24EEC27C5D}"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AD534A-1054-4143-BC4C-6B33AE3EC6CC}"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9373DB-3F39-4C41-A34D-07C702585BB8}"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4ACFCF-6D13-4186-80AE-1702E32F4242}"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6CDADBE-75F1-42FA-9651-C7E8DB98411C}"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D586DD-BBBF-4F9C-B6C4-DADC9D8F566F}"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5625309F-F23D-4798-891B-B094101A9F9C}"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3F659A-9610-482C-B569-76336015F4DA}"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BD50E9-3724-46ED-8335-60B4A4257143}"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87DB9AB-7E6E-47F2-A6B7-CA29B774FC4D}"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BAE8766-35B6-4E09-9243-9748491E493C}"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21662C-A410-4A03-A44A-C7E347956768}"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0510B0-ED19-4648-85B1-C4F4EC3E13C9}"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D125C53-B88D-4B1E-AAE7-F5094B4ADAF1}"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FCED00-B9CE-4B18-BF45-523A84EDF4EA}"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8E9A3E-48A8-44F7-9547-314A6104A6E9}"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1F8F794-0F2B-4EAD-A71C-5C1EAB6F02FD}"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FA620B3-C77B-4DC5-A909-C9E9E680412C}"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D8E4D5B-6ED0-45BA-ACB4-E7825D1D570C}"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092BB78-B48D-44B5-9A0C-5AAEED81FBA6}"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60E574-CABA-44E9-AAC4-ED1E6FF40D75}"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A06E29-AC3A-4708-BDC8-153A21065A30}"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D9BD9E6-BB8C-428A-875A-C4AFC80B3DC1}"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C44263-0CE1-4EF7-93AA-6C98D7817D3B}"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BB77D4-BD6A-4192-B308-D0EC11E0DC58}"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F6F8915-2D34-432F-8A20-500F124F773B}"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1BB9C7-6AD0-4E4A-91B0-58AF6AA68318}"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52B3B1B-12F1-4F39-BD48-2610298BA093}"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9CF4E41-28EF-43FE-A49F-E7226BC67E01}"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D62ADF-731F-4EB4-9900-2DA58AC642F6}"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3D4422-5434-4CB5-9C78-B4D27E44E299}"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BCE036-0DAF-4D1E-A71F-30C666900DCC}"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821ECF-5735-4C4F-AE8D-3415C6570B36}"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8265634-5AAB-425A-B08A-4879FFCA068C}"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D7078D-4A02-485A-B54B-62E95148607D}"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7E7F60-7BD4-4C67-A7B9-9BB0B90C3A25}"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50B8FFC-A968-40D1-8D0E-F1B5B2077C53}"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315B9B-B736-49D6-B735-FC076AFDC8DF}"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11F680B-9731-4498-8F1B-E1762B2A1009}"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2E6B612-7C03-4383-9877-E9AD064F4920}"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C60109D-B2B5-4BE2-BE60-8BC0AA5D20A8}"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6F6F2B1-C8BF-4658-A8E5-CDC479A8A4A7}"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F48612-E12A-4DED-8EDB-CC2E42F9B4F3}"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7F12D8-D3D3-46BA-B298-F2384D28DCDD}"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3AF0D0-9D6A-49F9-926D-6B59FFECB115}"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338881-FF33-4E8F-A89A-095B19CD55A1}"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25D1500-5555-4F5B-A8E0-4B11C43B9815}"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7493C8A-C701-4E82-AF2C-A16571E5667D}"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28996F-7702-4311-A05F-F6782BF956EA}"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94B289-C3B2-45FA-A1E7-1C819B1AA66A}"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FF8D59-53E1-4E91-9287-6489BE92ACD3}"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C2B3E0D-C7DC-44DF-B52D-37C0D06D1593}"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B8806D1-5F28-4B93-BF20-683CC95BCB56}"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2D224D-F885-4E0C-AF42-8919A7E4505D}"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DD965E-A7E5-410B-96EC-415E7F75896B}"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38A5CB-9B57-4DD2-BCCF-54F9C056DB96}"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55816E-20F9-4455-820A-E6870315F6EC}"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6D33E6-5227-4A0D-957F-436A192295D2}"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343872D4-4A1A-409B-95E0-E80433AE9243}"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E37F3A-9AA9-4676-8826-26D98E76C742}"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6E8AD3-362C-4E9E-9E46-2B954FDEFDB7}"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B28CB8-6B28-4CD4-B240-4A247D76C085}"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F6AB080-EC4F-437F-B4CD-A1D8AD435B24}"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9AF1730-23C7-4E58-980F-56BC4B7C2134}"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7C6C9B6-6C8B-4464-BB3D-16DA591EA6FF}"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FFCAC8-9C22-4C46-AF9C-3D7A22D9E945}"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B6BE83-4F7C-4B36-8568-55B2037099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537E24-5A28-44B3-A8BD-3D6F470D4E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BE3AE7C-8AF7-4EB2-9470-D0613289C8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60EFDD-82EA-43A1-8221-A5C6FD8D59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23CD6C-3F09-418E-BAB9-73ACC93538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1F5ED3-859B-4AEE-9236-868C209E15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2A50E9-D1B7-4D85-8D84-8006F56AF5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C51688-23E3-4D49-9C06-7D25D74EA5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D949F6-0FCF-4947-AEF8-D61F42B0B8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1CE7BD-10C8-468A-9440-6085CDE739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9E3C8D97-6679-4AB4-9E71-41265D9DE2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38240C-B1D3-48A8-B7F6-18C285F805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C8175A-F2C5-4A75-9FBA-06B65DA32B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D87BB7-54FE-4983-AE08-1C3A616366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FA9041-FC8E-4699-A4E6-F88F402A1F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C0E6B4-440D-4B56-950D-DE69D54966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AB41CB0-A089-4441-B0CA-BB029C11F5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DAAE43-D316-4C67-A5CB-F6A011DC0D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EC6AA2-9671-411F-AE10-89B25BED89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7D8449-AEA1-4A2D-B419-19A4F1E47D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89078B-4383-4599-971A-A335FFD190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BA4BD8-E2EB-49D4-8698-4CA9A680A3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ACC2D57-209C-4835-A1A0-41EB0B5A05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63DF9C-1C8A-4554-A8C6-353B0A4B30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2862D7-C858-454D-AE0B-F0E097D563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67D9BC-786A-40D4-A438-1B0B1A0590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CBA9EF2-818B-45E4-B0CD-9743786B26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E23EEB4-1632-4A9A-B43F-CBF62C9FF7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175DDB-D989-46DF-AD4D-2CD2C55337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3DA56B-8E89-4B80-BBB4-05E54A00C7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3E0DBF7-8235-47FA-8A56-8703C7CCDA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63F033-02CC-44CA-88B4-AA7B589BCC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D6F46FF-25E5-4F2E-B3F7-6DBB960EFA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C40FCF-91A5-4178-BAEA-F6062DF548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F9780C-F7B6-4B35-8F2C-FCE3CA9F0D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E71CB8F-8BD7-40BD-B0EB-A5973F1A37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F3B8AC-BEB4-4F7F-B2AB-6AB53F9D99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011885-451D-419D-A20C-68E1A7B544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F6EAEA8-C2F6-466B-BE04-7D014A1574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418D9A-E86D-4225-A3DD-40B6BC7242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025B9EB-950A-4F91-817A-A54EB7EAA6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4F02A5A-0C4C-4990-9165-406E7F68F7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2A21E08-65B5-4FFB-BD11-2B83C7F7C8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407F516-9AAA-490C-8B40-0CEFBB0108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5CAFE4E-86ED-4ABD-8A69-69994C68A5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BA94751-8DAD-41F5-8C82-D423BD09ED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CA74BD1-A5F6-4082-A93C-444789CDE3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6B4B47A-C556-4761-96B3-FBF7075D19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531B21-EFD9-4CE4-9035-714FF89C03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7D4A33F-96DE-486A-93EE-486629C3D5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118F2D-AC8E-428D-BEBB-C2842AB74D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019327-B06D-4D6D-8DBD-544C0B3C72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9931F57-E124-4AF7-9032-F3A300B5C9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BEA346C-3923-4716-9175-7E3712D089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E88FF63-92E2-4A35-87EF-E523471375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3CEAF1-6232-4FE6-83D3-1742BF3166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5161CDE-A820-4FEE-878F-B2693F1667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34C6DC-D555-4BBE-8F92-758FD830FE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34E8F6-779B-4448-85FD-6DFDD799A4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BCE891DA-B7E5-4C56-94EB-0D60A100A0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0B79E2-D141-45A8-9E43-E832D8EFC3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E7B4F1-EABB-4585-9C8A-76A28309B4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727AEAB-3C8A-455A-94A8-F19B3CEE5A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561512-8A41-42CA-AF7D-B2295417EB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30CB2C-E01C-4B3B-85B2-424EAF9093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C41231-4354-4F75-8E93-D6949B1781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6A68EB-AEA9-45C9-B346-A94D719B78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F9237E-E3B4-47C8-B82F-2102FFF63D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D3EFA2-1124-4A4E-8CB9-8B81C5A88F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