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4EDB-7D3F-4196-BE2F-2A8E35D15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F82C4-B69F-45FD-87F2-7D0BEE17F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868E-6FF0-471A-92B9-2E0E36FF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EC2EA-374A-4B31-A3C1-0E79971C1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3856B-87DD-4B4C-B5BA-38E0AD0C4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A0578-2A91-4F39-A0EA-489C6CC41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7ADF2-F6D3-44F4-8699-D6E876489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E41B2-89BF-4BAE-A37C-1CF6AAB94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95505-1B1A-4C45-AEA1-0EF75C83B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43F23-6CF6-4425-92D9-CDF58AE12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AA2F2-C297-427B-AA54-5500EFB5A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2DB3A-2292-4246-A387-8BA3CC353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5F9B4-07E7-4AFC-A2F6-6C73E3C2E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01C54-2B2E-48D6-BB37-0B297834D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54CB-6EBE-4828-ABA9-941AD63A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2C31A-72AC-4D2E-93C9-304B574F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A546D-C6FC-412F-B1B1-CE37B514E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5D66D-14FF-4BDC-AEFB-2AB139E84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A7E3-6013-41C6-85C1-FCF7A8B53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A37E-10F4-4DF3-A830-2BCAD7A2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D0073-8F6D-432C-A0EE-127F30E6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8C3C-89EF-4A3E-B6C8-D7DA7FA8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1FE5-BD6E-4778-A20F-D9040F6DC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0330-D504-4FCE-A746-0B02113F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A8FF-2639-436A-A3AE-518A1C96D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10CF-2C93-442D-A2BA-F21C99AEE9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36D7-DEB5-4389-9A93-A6B86661CFF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B9A423BC-F08C-49EC-9858-07F283B18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C1A301-61CD-4F4F-85EA-45D8401C85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D16AC5-A3F0-4CB3-AC67-CDBFCD0A1D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3A181B-E038-4540-931B-C732ABA45A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A27A7D-CEA5-4F93-9C07-71060CB285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4EA8D0-8691-4249-8FE4-4CD551EB13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61CDF6-CCD7-4FDE-9BD6-50570E5BD2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23F58D-39F6-45EF-8946-C099290C51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ACDA72-153B-4B76-8EEA-9DD700EC7B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95A2B3-F053-42AC-A47C-AC5A503398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F1DA92-DB23-4A00-B8F9-EBF1796FED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203DE1-827D-4B8F-8107-A61D81186C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38771A-96C2-4B97-BEBC-812AFDA49C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A64823-8436-456A-971E-6C1FD662F6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A97175-EDA7-4E30-9DA4-70C4B3364E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DC230D-4161-4AFD-B934-A557956A85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F2D77F-755A-484C-8A84-6CC7C34D4D4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302119-291C-454E-B535-EB28F142D0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E101B7-6506-497D-B28F-0191570067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31EED6-7E53-4963-BFB7-CED2D31892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29A972-19B6-4C4C-AA9C-E0C9316EBB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6930BE-5B20-41CB-9E48-921F15C66D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88ECF9-A1E6-4D79-A0B0-6F1DC0D36F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E4A4B73-DAEC-446E-952F-00455DDA65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FBB15D-52E9-4618-9599-0A675BBDE3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FF5E80-43D5-4FB5-8BCB-15E098610C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0128C3-0109-4116-85D4-2FB77C38D3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634A70-5D12-4741-9F29-EFD3A43080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E4184B-1ED7-4E8C-9AC0-F9AD3A5CB3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47FFFD-E705-48D1-8113-0242B6B664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FCFC7E-31F8-4A24-8749-38A5453568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7DA239C-290E-4804-8D0F-0CB6E9FB26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9D96E6-B487-4D26-B5E0-C09CF212E1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A24DD3-78B9-4913-BEDF-C0C7721965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A9DE37-8485-47A3-A5D5-4287BDC747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115352-74CA-4CFB-8F29-42D9CBE557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E578EE-F844-43DD-AFFF-18599CB0E9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3330CC-7BA4-4EB7-A7F7-BA1B13A024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EFC919-3AD7-4666-BD0A-ED5090D73B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71599E-D259-4741-9BBC-795ED001FD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DEE637-9D26-45CA-BD70-A93B4B3EBA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BFCCBB-07DF-46EA-B6C8-3A1D375BEA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0EAFCD-BC9B-496A-A178-79AA358020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1ED205-A25B-4099-BF7B-DED4E098FC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425B82-D80F-483B-8769-B9C156953A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2BFE25-5338-4C80-8102-91F32B7B28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0D5DC0E-CC6E-417D-987E-234BEAD214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42C8527-4CA7-4263-BCBA-DB3F0752A6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0A80D39-7660-4DDA-AD58-F0E78626A3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D1FB8F0-6090-4BC5-A36C-DAA9557402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BFAC66-14EC-41CA-94D8-167B9F289E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2A0222-876F-4BFD-B038-830FDFD49C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DA6190-9DB7-4694-BDBD-2F58C26257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01C4F5-6F5F-4A8B-91D0-3769DBB979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BEB48F-4B58-455D-A5C4-92DC2421BB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90F778-7276-4250-9AD1-30D0646DF7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C7F817-E59F-4487-B213-ED53FDDB9F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3F273D-A6FA-49C1-AD0E-446EBDC75A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2506D45-DA62-4034-A0F2-1A3311C192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2EA921-25D9-4B07-B7F0-349FDFBAD5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7AE5254-B864-48A6-AC8D-5E06A5F50F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4BED9B-E0F2-467B-AFE8-58D137F540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40C338-1988-42A7-B88D-B35B1B8194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8AD086-B418-4A79-A65F-9B5164176D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A04E77-5165-4210-B5D1-85523FE2A1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9D0841-0D25-4EC7-AD1A-E0C540491F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44A8AE4-6943-4057-9BE5-B81AC62084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B8F466-E794-41F2-BB90-7CA82D7062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1954990-96CB-4736-A2A0-96208D19CC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3A29E4-1D79-4638-8E87-9037D17AFB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48F770-7B89-477A-82F9-CB7A583605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6B95ADD-DA6E-4D1B-BBC4-5BBAFA5DF8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5D931B-187C-4BF6-9A78-A3D15C2E41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C6A22F7-6917-4450-923A-985B0CD095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1DE37D-8D56-48DC-9F68-C68E85848E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518EC9-DB60-48C8-AABB-BF9E3DD82B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519481-E30D-469C-84FA-CDF37D128C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A0D7A6-445A-416E-9D87-97C1707881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5FF2D0-F24D-400E-998C-76ABBE03E5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89EDFA-941E-4AD3-AC8E-FAEB8B787D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8E30FE-390B-4FE7-AF32-B8473D48ED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6986C8-279D-4F17-AD43-796FE23466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88468B-E402-406C-B54A-C198F6B649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26DC75-FBDD-4690-BD3D-B00C8E0E8B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E2CC67-3AD2-4567-9C92-1957AE229E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E7EA17-791D-4631-9B33-6418C6FD53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145412-A643-430C-8AD0-3EA81EBCB7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5B4AF9-C306-4E8F-B51F-6F388CBBEC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CDD235A-211D-4C6F-B2F6-E8822CAF87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ADB427-4E5A-4F5E-83E6-3311200E65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B9C28D-0BB0-4F69-9153-6EDAB88729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EF05FAF-43E2-47CF-846D-A173EA9102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E9BB53B-D2DA-4492-8571-76C427AD52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B617B7-B510-4E79-A3AD-5ED9B07A84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169CB1-6407-45F3-AE45-D5C4A29E2A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C22A07A-486A-44B1-BCBB-6F27B238A8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7B632F-A68B-48A7-8686-0ED267F7E6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B1CB03-8021-4285-84BE-4725BAB46F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A3E906-F4B7-48FE-84BE-0E9D77AC78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C46FF7-6335-4A2D-8751-BB2073612D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5B83FE-22D9-422C-A988-059E2079DF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5B7A80-A8E3-4BD0-A382-D215B759C5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87479E-DFF6-40AC-802C-43CECD2436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131E5F-F33C-4DE8-9136-87004B19F8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162FADB-17FA-4858-98E4-14787B81EA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85717B-B244-48C9-8827-C1BEC9F93D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4B1C60-BA69-400B-BD30-8FEB6F6935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4EEF99-09EC-44D4-AE6C-1A811EBA52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7F4876-9794-4AED-891B-9BFA85A78C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18AB50-EBE0-48D0-A8D5-69C2FB35EE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D66925-9B11-469E-8A73-56B9FFA0BF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CA978C-4E67-4B91-9A91-6968C5BF5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F0E563-BACC-4017-832D-DB26DDD27F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727B1C-9FE3-4239-992C-B13BD2358B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FD5D7F-A3AA-42F7-B52D-819193ED9F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F7A9D0-B1A5-4539-83CA-E4BB43249D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2E1BE2-98F9-400F-BFC8-C0D14FD73D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2226DB-5201-472B-A08F-7F9BB904A9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590BB5-485A-471B-AE84-54B522E784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4F74FC-068C-4402-B2C0-067B260AEF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D9193C-7591-465B-B971-9D790B44B6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1ED3D3-80F6-40E9-AB03-FE29FEDD94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453BCB-CC50-411F-BA13-9E44337F94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90AFA6-304A-42CB-ACF8-7DFF2164F2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BF6013-4A9A-449F-8FC8-FBE5855057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0622BC-A3C3-4F3C-9808-701888CEED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3FC713-69B0-4384-8712-2B7701CD68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94439C-4F9D-4E99-B937-77AEA620C866}"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D2606E-1DBD-41F0-A9DF-FBC55E79020C}"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CEFBEA-D6AB-425A-A1FF-BBBA9ED4AC40}"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25A941-EC9B-4758-BFC7-60454F03E894}"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1FD432-10F4-40F1-8250-1852CD1DBB08}"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81DCE8-3318-4488-AD76-2DAD2D500DD4}"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6A4BDC-4320-4B01-AF1F-0DDF114B926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2725B4-60ED-4CD6-8EC7-57D4BA739DF0}"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B0F52C-F75C-4E72-9925-62363B9C9A36}"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E2E7B1-50AF-434A-946C-1A6C5EF19957}"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00EA2089-CB3B-4EF9-A885-0AB6A132E93F}"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FAE7B0-4DD7-418A-92D2-0EC59CF3F230}"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4EE14F-C762-49C6-B23C-0004C0378195}"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ABF6FA-163F-4E77-9857-61B87614ED75}"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B56A0B-C79D-4CF7-8F64-77DD1C8CECCC}"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BB537A-50C5-4AE7-ABBC-C43D536EC60F}"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822045-E9FC-45DB-8736-414CEC0D3689}"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60E79A-C08B-4FD4-9E33-8AFA221BBB07}"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2C7FF4-61D6-4C51-B320-64B0BEED1291}"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8CBDF9-1F73-47AC-8E9E-93F441823319}"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DFC82F-171C-41C0-8836-87737598360C}"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318372-C9E9-4D14-BB32-10A3ACB7A2D2}"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F99244-CCC5-4753-83A8-B88C69F72B1A}"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3F882C-7A09-4862-94E1-983A1D76F410}"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E85D10-0B51-4669-B034-C5F94792FDD9}"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E95C7FF-7602-4C96-8664-9ABE8D66CB22}"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7EAD19-1B55-4731-B1A6-3587E91AF985}"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6ABE4C-DEE9-48FA-94D1-C0572C378093}"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5EF439-FE82-41BF-80C8-395C707E4A66}"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624FA0-244E-4425-ADDA-F7F0F8A13C87}"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A0D22B9-4213-43A7-B1FC-741CCE2DD5D2}"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997A6B8-91CF-48D6-8CFF-990493016730}"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2F1BF1-38EA-4ABC-8E1B-60CAE58B408D}"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C878AB-5324-4B80-B03C-FD6F9BA14009}"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2B36D8-E29B-4849-BF25-927BF2A3073E}"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CF63A2-57BE-436D-BAA2-970192536E4D}"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707691-0012-435B-99A3-883B412B67AA}"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DA22F2-3FDF-433B-AE32-095EDA656B26}"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25DB4B-A516-4D46-AC23-77C21CA158C5}"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379B1F0-E0E9-4204-B460-C5AE28767595}"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8827DA4-BD48-45D9-900D-8695FAF9D418}"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C10226E-DF6B-49AB-BED6-0DEB09DCEE8B}"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98CA5913-5794-485B-A667-47598E5BA076}"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F88502-AB15-4BA1-8C0E-2DDED914B994}"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CBE400-B4B1-42B2-BABB-298E96350642}"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9F9D46-ECFF-4A99-BB38-F1ADA45DCA25}"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693A48-E540-4E59-AE37-9FF2533D8ED8}"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0D0C48-5B90-4EDA-84BA-67F67F13EB3B}"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EF925A-DFB4-407C-8167-1C0F5EB068B0}"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408CCD-2EC1-4271-AD03-6F915F65BB10}"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B3BCAB-ECCC-4EAB-A366-7C7C9DC7929B}"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1B6696-278B-44B3-B9D3-BFBF51448FDD}"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4A66FD-CB80-4A87-97B3-4B53D6E510DD}"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D4D3EE-14A1-45BA-B3D5-BE0522BF8128}"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88E043-1C58-4978-873C-0715130E38FC}"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DBED6C7-5BA1-4DF6-B6D1-3789E198D043}"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6B6D72-5043-40C5-9ED2-09E33BACEB89}"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6C4CA9-B6FC-4F04-98A1-954F04D3CA3F}"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ECFC14-0758-4D9A-A5FC-5F8086537862}"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A75DB3-3182-46C5-81D1-042D9182F594}"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7F2A9A-5355-42AB-834E-A9ED7B545F0F}"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5B3096-2EDA-4708-84C7-383894EEE5EB}"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8BF8D0-1724-4A09-8302-598646C6C83B}"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6174E7-1418-4C28-B87C-91945900270E}"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F9FBBF-00F6-42D0-8A6D-FCB37410D2F9}"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A1245A-1D6F-4B69-AD06-F4267247D01C}"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D46349-AF9A-4164-946A-890E33E2F262}"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ACEB06-CF4C-4E58-B751-2E560AFA0ADC}"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C7E99A-038F-406C-BEE9-2FC693BA646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C6009E-112C-42B9-9430-81EB4B4956A0}"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506D63-24A6-4EA5-B54E-E68E2597C5A2}"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8019A3-3EC6-4945-B8FA-AB3D4E5E4993}"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E71517-AB42-4E2A-BBE7-5F202426F87A}"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70BDDE-D4B2-47B8-A2E3-2DEB8999E3E1}"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A0B3C6-A88E-455E-AE58-5FB56E1C0B8D}"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9D5303-8410-47CD-A2B7-AD669505E8FC}"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E960EB-C125-4191-9B43-8609028742D5}"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EEB1F6-AD40-4562-9774-F141F8D712D0}"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09E59C-26C5-4144-8B74-CBB874C9A905}"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9B7E42-4F50-4414-9CDE-B79439B8E97C}"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BE586D-01C8-40C1-89BA-740E48B84BAB}"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2CA22117-6AE9-463F-8EF2-4E58C5AA0A18}"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1B53B2-E97A-42CB-816C-14CAB5117D08}"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5E5E112-A642-415A-A76B-5959044A79A6}"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F76F30-49BB-4A23-828D-C9C8B8647B7A}"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8FF5BB-18CA-414C-BB38-E7F2218ABD94}"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BC429A-9817-4928-83F2-703D375598FE}"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CEC005-259A-405C-9892-D4F329DF8560}"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25EE7DD-15DF-40D9-BE95-01E483D1607F}"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CA6CFF-F96A-44C8-BA27-B0F658DC91FA}"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BC05E4-B47A-4DFC-A7C6-07FC39C849ED}"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68FD34-E219-4D9B-966E-571F980128ED}"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72FBE2-BB3F-4F30-BB45-365E4A23E878}"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B1B6CD-59A7-4767-BB74-468626371845}"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DF7C49-6986-46CB-8245-A6B2F2AC1CD5}"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92F55D-9849-48F3-A2DC-7493C0AEB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D8C600-C10E-449E-8FE1-6798DA03C50D}"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0EFEBE-F739-44A1-898E-FBDA025037F5}"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B220416-A05F-496E-89C9-4E05398942BC}"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4D8E9FE-57FC-4576-A91E-A2BE29FC7482}"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F9EB87D-0A8F-475C-8F66-47D40D587426}"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382B80-4878-4519-A27C-CF2CDFD4FCDC}"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B9EAD9-8FB4-4BB3-87AE-BFC00A71F005}"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E30BFC-5CF1-4BBD-868E-F95E5E4F19B4}"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047372-DE24-4868-9AD4-F481EFE9DB5D}"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D8F12B2-A0F5-4225-BFEC-F9E6F29EF119}"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C3F0DE-9CD0-410A-A3F2-3E6E622F45E1}"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9B3DBC-9328-4057-BE86-D4605E9CDE55}"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898DA2-7F85-4DE8-A064-6796D5374B4A}"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A46CDE-B926-4E78-89D9-BE823BACDCF7}"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2381DFB-0A03-410B-9E2B-6D8FC9975CFD}"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941FC3-9FB7-4D26-BBF0-EDA0B8C629D3}"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05FB608-E8F7-471D-B647-0A968FBA3FD0}"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8CD540-3178-4CDA-9988-5AB9953ACFB9}"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C3A676-4BD9-4253-8992-702A866086F9}"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3221AF-9219-416F-9155-4B239C885E00}"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D0A02BD-682D-427E-A007-54F7CB7C2786}"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E265E8-EC57-4384-A325-B610A2BE4193}"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5EB33B-4022-43C7-819D-B5230E62E9D5}"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83B49B6-FCAF-4651-8719-B3DB0000989C}"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9AC873-2ED8-4C81-8090-C14A646274F7}"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451959-078D-4841-B26A-6D3A298B0AB6}"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EFE2645-85AA-4888-A4DF-217BCDE1A2A7}"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45107AA-3AA6-4FF4-83D0-9097ED144779}"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8D84783-56DE-4EDB-B25E-7F7CCE334B7B}"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4FC4677-F6C5-4533-AE00-32F580907874}"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A9A43D-39CB-45F3-AB04-A979228B1999}"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27917F-0984-460A-8199-52D4228AE939}"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6089185-ECA8-4C1F-B36A-87AF1BAA7BA0}"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94A19F-676A-48E0-A8EF-E75A7D14D8F1}"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13C1BA-1D65-41BE-A3D9-2B49BD00A0BE}"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CDE2DF-A5AA-4456-A030-F4C65E4967DE}"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8E9D0F-8758-4A14-94AD-08A20F4453B7}"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2DAEB8B-8D62-4D1D-A68A-AC3741CC323D}"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E2B7EF-86BF-4208-A0C9-142ED0C3BED0}"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8AA01A-EE2D-4AA1-8DE9-BE92E916A139}"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C49B46-BC49-4CDF-B040-EAA73CCE77A1}"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DDD00A-2C91-4AD8-A742-0F5BE10C3F0B}"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DFFDD6-266A-470A-80FF-DFB3B354385E}"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73C54C9-9ECB-41CB-9811-EF2F50DD6AF7}"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781494-0107-47A0-9A8E-0BC1D04A4DD3}"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3FA703-00CC-4C52-BECF-77AA47A90058}"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4FD61E-D7C8-4771-B3A4-96FBE3489E1C}"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04A386-8D0F-46F4-A936-33862741B925}"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F0D9939-D936-444C-A40A-FAA47ACB6DFA}"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79A193-388E-427A-ACD8-BC8ADD72B4B0}"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1D589E-7602-4706-A3DC-370348B9571F}"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316DE1E-F72D-4174-95C7-5003BF6D3431}"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88FA44-063E-474E-A3E4-A8396CE1A5AA}"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50BAE4-AE6F-437F-A9A1-8E36E1FAE66D}"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32BBAA-DA2F-4034-A17D-B875A920FC89}"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FBEEFE-2FC9-4E41-AEF7-8C5DADEE65D7}"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CC4EDC7-9A0C-497C-B2BF-CB1980C717A8}"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59294C6-CA08-4878-83C9-747B88A04277}"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9BA882-1BD6-4CDA-9B1D-DD448EBCF6DC}"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5AFFB2-3D42-4499-8121-E810F7561070}"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8ADE33-FE25-4ECD-9C3B-FAEB6518B2FE}"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877DFF4-33AB-4A92-8533-ADE7D953975F}"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6241DB9-8D6D-43ED-B0C6-E93E75C74C5F}"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27B5B2-D96D-4F4D-AD9E-C9D8AA70B4A0}"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78524C-F453-4064-A013-93CC6AAAF112}"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D9CB3D-56EA-4468-88E4-870E08CB8C50}"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7F3528-A3C5-428C-BCF0-E7359C6938ED}"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A5CE88-8F91-4450-B001-BBB14E3E568E}"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6CD2EF9F-816B-44FB-9E12-671B506AB350}"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4C2E13-FB79-4175-94B9-FD78DD95DF82}"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C12209-2826-440F-B4AF-79990C42C22B}"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200B52-3874-454A-A262-3962A9CAFA7B}"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33B79C-ACC5-42D2-A9BB-0DE5130EC650}"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F3D886D-770A-4256-B19C-A063D17776B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C8505EB-0F24-4467-9C0F-17055BE1135D}"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5F7942-6089-4E91-9261-BFBAA6FD2F73}"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59469C-9E36-49AE-B455-ABF9008C62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74D935-0DA5-4E8A-AD1C-B1057F64E1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CC15A0-068F-4239-BF4F-CD9593993F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EC3E98-25C3-48CD-8348-2A12C94AA8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966D39-091F-4A29-9A8E-8C5529CACE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CB9AE6-E463-4822-A5A0-D1A26474F3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F78C62-9337-4CDE-AD40-68B435484E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CEC5C6-6296-4190-9957-4F4D28FAB9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35F3BE-5E11-483B-9701-1FFDE730E3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9B564D-A243-4B95-855E-54706E4FDE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5128298-9ECA-460C-95B2-0A1EFE6994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9D4278-CBB9-47DB-9CBB-9DBDB77C23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A74150-C98E-4A33-82FE-348EEBD64F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2FAB21-0410-48D7-8BAC-10CE7618A6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DAE5E3-BF3A-4D7A-AA2D-4958C3C1B6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6AEF01-F599-49F0-8DDF-AD3B2785FE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DEF89D5-32D8-47A9-8F65-55EBF2F3FE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CE53E2-280A-4FB1-B7C0-A581AC2361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9FD836-A7A8-4FC0-AD6C-E3212070D8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43ACA7-A643-4133-AE47-8BCAFCB79F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E7A116-C18B-420C-A562-AD407B8D81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4CDB38-85E4-490D-8B19-F794F65966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36BA56A-06EB-4114-92FF-DC2FBD985B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F8C9F8-6892-4163-8CC4-EA2E837D16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7152B1-8B7B-4199-9916-22B8C4ED1B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95D7D5-2852-4597-84C7-D93881B995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053274-2378-4FEA-AB19-D08EE60159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403408-17C8-476F-96B1-EE7BDC12A7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B870AB-498B-4BF4-9BB6-873383BB93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F02A3D-4A99-4432-A343-037AB1043F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EB243FC-9AF8-48A1-855D-16F820B009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EED105-8C67-47CA-8908-EB7F7C5AFF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DB25064-8AD9-480A-8A5F-E9651D2C89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920679-AB09-45D5-872C-F238C52E4C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22B572-D0B9-42FF-907D-C61E28F32C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D35F088-0A68-4F09-9E9B-D308FBF8C9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178414-A47C-4CD8-9FAA-59B72FF452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EF0DA2-BF7D-4CAD-AAAD-CE383183E3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C2C00F3-9BDE-4650-8EAC-058FED85A7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5C9256-7880-4AC4-AB47-9D62B130D6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22D1259-50F0-4853-BBFB-045A5B3E2B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D2887F-0704-4F4D-8916-89BC288F94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D32E22-E8FB-4A20-9B7D-C36EFCCC2A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CE60E74-1521-40E9-B34C-936C4BE32D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FEFCF2-298C-4B07-AC0C-8533B50333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69FF5A6-E6DF-449C-9687-61DF4EC71D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47BA96-D7EC-4514-ADDD-B96E1FDA96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A0BCCC6-0405-4647-A73D-FC368D442A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09EDAF-7AD6-402B-85FC-3CD99A9374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882CD1-8A64-4421-8B65-9EC0ED696C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E55D1B-AC19-40D6-A548-CFA7099DA9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8E88B1-0AAB-4D54-9873-1CC48B70DA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170B96-487B-4739-9836-1B2543B76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0B9FCF3-2C25-4A58-9D87-F47202057B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7B0D62-2D68-49D1-BB1D-C3B6163EA2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DA9297-B8A5-44D4-9EAB-26E78C89A4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0B864B-8D96-48A1-851A-C523A03A5E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36042F-8EED-4ED0-8A33-A1FC2323A1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4F8D93-D37D-44F7-9B47-BCACE48A32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2EBEAFC-57DA-45D8-B22A-756EB1E2E4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28FDBE-3F49-4076-B08B-F0DA3734C0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627649-DD68-4B8E-BFD9-B19445F4CA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D5B63F-6499-45A7-B270-738DF3E184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67C325-0DBC-4EDD-82E9-C9CED93DEB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8C38B9-3303-4361-98A6-CCC2B265B1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CBE6DE-0D8F-4567-8F04-F847724905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9FEF29-9349-46CE-9BA6-48271C6A9A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24D25B-6936-4130-851F-31FBEF4308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91B1C1-1C5C-4703-A295-3A9BD2E310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