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7A96-650E-4194-B29E-F8F2C13B3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1BD6-24D6-4A4B-BE29-82D6B7F62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10DE-0C2C-40CB-BD35-49A7E220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6D2E0-F2E6-475E-A0DA-2AB11E65D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C2D1-E9F6-470B-9CBB-6AE572EA0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9044C-A6E6-4D5A-8543-0D8CB31A3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65B00-5F0F-42D3-8554-DA7C3D9A3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7BC6B-206D-4147-85AE-18E82A0E2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2CF2-3F5A-4D48-A674-F3EE12A21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EC6E-8CD2-4F9D-BBEB-F7FA794AB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47CC-7936-460F-AAB2-CC177BAAA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6D586-751B-4629-9B0F-82DB7C789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07B9-42F7-4906-84DB-5CAFE6D66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4B713-2AF8-4016-B11F-C8789BBE1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9ED71-681F-415D-9631-9C04D6B47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F651B-F2B8-437B-99E4-25D9FDA39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C5592-DED3-482C-B451-AC4D203E1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E22D1-1753-4773-A91C-88B6CBBCE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E597-2A2A-42FC-99DA-5BAFB0D4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B6AB4-4B72-40BE-9508-8E4D025F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9812-48C9-49C5-AB02-9522AB00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58BF-F9B4-460C-A5C0-F3D2A37C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F321-5152-4574-A3C4-BBEE8288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95EB-2EDE-4D2F-9DB5-F969E8B6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FEDC-76A2-42DF-AD41-4DA4E824E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E0C1-2971-4D8D-99E5-D0A24521ED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A71A-8990-4866-9565-BB0216FA4CBE}"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AE4D040-51AB-4739-A6C0-85F53D3DC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5D4FF6-A46D-45D5-B405-41D5100E5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A85927-4E7A-4009-B1A9-E5935DFAC9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855EE2-3ABC-428B-BC0F-D4790F2D6D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23568D-EE35-4BEE-A06A-70009BEC9C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9A1A84-4769-4FF0-AB02-ABD5AB31CB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E8BC68-CAB7-49AD-A6EB-DFE74D8C19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619610-1CE7-4D1F-8E30-53C9C7A380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53552D-5849-4648-AFD3-72C62611CA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2611A6-BB15-49E2-901E-810908F7DD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CC466A-EEB0-4B02-B42D-905B967F06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570620-3742-4D01-A5E8-A7685D59F1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F9D3E6-FD23-41B2-8699-5813B774B1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0E8002-E9DE-4F7A-82E7-A73223815A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714B29-9060-4383-9883-00E423960F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41DD80-A11F-47AE-AEF2-57BA89BC21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14FC29-D1D2-47E4-8AE3-201358B12C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6D327A-AD03-42F8-857B-CCB2B46EB7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7693C4-83A2-4681-B542-09EF2C3336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98C2C3-4F17-4D69-BFDA-AB00402053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9F1256-7742-4891-A138-AAF211BBD7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836A0D-F443-4D55-8D5D-F137ED9105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57193D-439C-446B-A16B-9C1D6A3EA7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38F6D83-BA50-44A2-97FF-A3C565A1C8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1CDDB2-01C5-4A64-8C07-5BC1138AF7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FE929D-7B6D-48E5-8B85-21189FBACD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45203F-26C5-4638-A487-4D09B6D5C3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D4DE30-A665-4A1A-B0A6-BE0E040CA5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7B87DE-21BB-4E0C-9688-FA94F914B3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9AB568-9724-4F39-AE3A-CA6E87A58F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34290E-C77C-4A39-BC5C-E5B71698CE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925F494-5277-4428-BDE2-07C682006C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2B40600-9104-432D-883B-1F420B3345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CED374-B4A5-4A2D-9B37-4211CB8D98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8C947C-D891-4CB1-80BE-37EB110797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C37F03-E15E-42B2-927E-4640B9CE92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5679B3-56A1-4E27-BB97-E57143BDC7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FC84AD-8A94-48E6-B71B-D60C6B5BE4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DA6C91-6B16-4C9A-B12D-D7154F75EB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F77027-5C1B-4600-BE2A-52D189D85D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7C1B86-EAB2-4F27-A6AC-E2C60751DD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A22A30-90D9-4C47-8721-20B6BA819A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EA3587-E238-4DDA-B29D-47B98AD67C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2FF4C2-A71F-480C-8200-66A3EB386B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C35A07-DA33-464A-A761-3405FD065D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5159A3-6101-40E8-AD43-3D5BB912EF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184E0EB-B17E-4839-BE8F-AF1EA7F327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CBD61ED-7A1D-417D-857B-933A2E7144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59264B6-2E15-4FEA-AE4A-58B497503D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7A165C6-CE1E-4335-BC9E-2960D644F2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676A94-7148-4FC5-8438-3E7F62335B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669C5B-DD75-44FC-9F94-2A960F62F9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E7D623-55F2-456B-B55A-4477F54973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ADB267-BE23-4314-BADE-923265F226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58BB0C-83FA-4B6B-A2D7-9AE3F27E6F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EB8711-3BA6-43BD-9EE1-4A775FD41C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128709-FAB0-40EE-9A19-47653EF865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8AA181-DFD9-4864-B4BC-FFF8F8ED60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EE18A4E-A522-485A-BFB5-D230C93C84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226BD3-D004-411C-9AE7-14D2B592ED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4179E52-4EC9-4D6C-B8ED-13A6A7152C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5FF29A-B910-4970-B6A3-4D20D63B88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4C95BF-390A-4C30-AD10-32C405F5DF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5A2AE8-72DE-4187-AF31-2D0BE0E960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140AB4-20ED-473F-8F72-0D6A10278C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8C7E10-F7D6-41FF-8A3A-DDE0B216BA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C53698D-6B14-415B-B5A9-98DC5891E7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B17D8B-8BF6-491C-9460-C6E674CC1A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A2737B2-9EF2-439D-AE4B-0F54FAEA81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3DA46B-A873-4FB3-B586-3744693210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84A7C7-A506-459D-8921-6DBF7E8E08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07CEA0B-DA48-4B07-81DA-403D0FA633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E9F236-3416-43DD-A93A-BF4A3111A3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F648B4F-DA08-4FC9-B1C1-8769CABEAC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72A5E5-AC40-4B7D-81A3-43603F093E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A304E0-6C7B-4545-947F-215EC5F30B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75EFF2-561E-4F91-BB2C-E65C770815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E39735-2AE7-4CB0-9F6A-903F6FF892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B67132-51C5-4CD2-8C90-E11B896685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E32CBD-D1B5-4A31-9A41-E81AA62344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D89F1C-A1EE-4323-BFB4-8DE26E68D6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387181-4CA2-4D10-B20A-1BA419140C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A6C547-55F1-4C05-9DD8-12864CF9A7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214555-9E8D-44A3-81B0-8A4F6B8D6F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E712B9-2108-4E2B-BFC2-3041B39565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94A810-11AF-4FA4-85EC-AC01EC5FF9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17BE46-D161-4575-8833-3D8A98FE86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038695-49FF-4622-B6C2-AB0F29A447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927EAE5-8CFC-458E-87A0-BE662EA012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D4E37D-4A89-4A81-96EC-6897472FE3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8A3947-9156-4D13-AC63-F39AD4ECC9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417A1CD-1B11-41C6-98BB-DDC026B48D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53222F-8337-4A3F-B490-655C18F3D8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501CE4-81CC-40DF-8E81-48AEEF7BD6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CA7B97-1E1E-407B-9AD0-486CCA5653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38A2324-6CE5-4C46-86F3-00583C3BDE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06C0DE-F017-419A-AB9B-32AE16FAB2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17B771-DED0-473D-B8F5-330A40FA8B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A8B408-C7E1-460B-8361-73ADA26FAD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F3BC7E-2C50-443A-AC6C-0E107FCADA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51E0F5-0B7C-4CC3-A1F0-3A18653ED4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1FE592-204B-4E70-A208-AC46D2D5B7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C93C4E-C327-4D3A-B082-32D1441296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5F5D03-DBA3-4F5A-9AE1-403ED78160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6B9EDFC-93FD-4868-B803-1B43178755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289A61-5398-4E86-90F3-239C8114ED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76FE8B-E108-45A9-8C07-C01D280B25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D15094-985E-492D-966F-D443974129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3C80C8-5429-4363-B05D-C9D5A0A3A8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6FE183-BAD5-4CEC-9208-6FF36C3D5E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66A0D4-17DA-4114-BDB6-9945EC46D8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31307B-D0D6-4355-B000-C3E928FAB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F66B41-284D-4625-B4AF-96C6AAC138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933231-B5AF-4575-A0E7-5FE1B623A7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119276-F95F-4C54-86F9-DFCC52C5AB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643148-BE19-46F3-86F4-127190AD9B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5ACF24-F8C2-4F23-B97C-637716D851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347FE6-E1C3-4F0A-9B34-24ACB951CD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FB379D-6F09-4CA5-BD59-2345150D94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D413E1-2766-415A-B2FA-7BFB09F7CD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807208-69E8-4774-A1A1-B3A11D93EF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A75151-E8DE-4E05-AFDB-EA6668C8F9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993C86-302C-40EE-A67E-12E373CF9D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08D125-DBC3-4207-A01B-AC674202B6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B533B4-AAA9-4A4A-83AD-D5682298E8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B18686-CB84-495D-AACB-C46606979B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A7CF0F-9534-458F-9B58-A8A8167DE4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03C31E-48F3-42BA-89D2-CF31FA98AF64}"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9291D0-3A96-49AF-9637-AA220B4CA572}"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0429C8-1F4A-4D8E-87A7-C48686412B01}"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B4E643-B140-46D1-8A2F-D3F9CCBE5023}"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C1882B-A0D3-4683-A153-201B3C4E6FCA}"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5D3133-F4D7-4394-BC32-0EBF5420EA55}"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DE275F-E044-465B-9902-DF3817089D3F}"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DEAFDD-269E-4FBA-90B9-8D3EB258CC25}"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5EC0C9-8B38-4F95-B0CE-CD6A0F42D2AE}"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94DB92-AA95-4ABF-9B0C-FB8C7E34F509}"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3E52CEB-B1B9-4755-A2B5-8B3505F34560}"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2DAB78-4000-4E8A-B674-248509CC84DD}"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45871C-6F80-4D32-A068-CB70F390EC96}"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244817-853D-4236-ACA2-5A55579181CB}"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2474FF-A4CA-45A0-AD1F-DC84CD15FAC3}"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D5184B-B9DD-4C41-8332-83DC09B9AD90}"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2B92B0-E1CA-40A3-AE98-FCA790CCD665}"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3F4C4B-3FA9-425F-AD99-DA83792BB800}"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34839E-3CAA-464B-8020-F22E27E06DFA}"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0C4FEE-05EB-41C4-943E-4E9BE9948B8A}"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AB6BA1-9A12-47FD-8C5F-01CEBB4C5243}"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855CE0-365F-4615-B0B0-997E4AD4EBB2}"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73DB8B-AE80-4D4D-9DC8-5578F688317F}"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E77B43-3BF8-4CC0-9279-0F9EB29BD0A2}"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01CF03-CE83-47A1-8AB0-82D519296134}"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11BBF41-A1ED-48F4-A8F8-8B29724BA4D0}"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7534336-E8CA-478A-A74A-F7B3FEB86C41}"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07EF75-11BF-46D3-AECD-F87543EA3573}"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3124C0-5E50-47CB-B44C-F8C2CCAADCF0}"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D38C86-BD96-4675-B206-02B2A3F9540B}"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D3DA9D3-02DF-42AA-9784-A0B7526E433B}"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64D692-1304-4CBB-BD81-2AF0A6A6329E}"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C368D7-1E15-4C0F-8FCB-912906B031A3}"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6EF3D4-D6BA-4599-A061-3C2E475549DC}"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EFF9C4-CD43-44C0-99E3-EC3994CF2D5D}"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51B153-7F18-40A2-A390-7207F9DB7A4F}"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684384-6B8F-403D-A638-8183805F0159}"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64C01B-42BF-47D0-8B73-C95316EB9C86}"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83BCBA-6C9E-47A8-BECD-262A3DD3980D}"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08ED65F-BDAA-4E13-83E9-EC13E5295CD5}"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C0D3AB4-ECFE-4BBC-AE73-A6AC885891A9}"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6C871DA-25E1-424F-B7C3-123E249A4283}"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2451CF48-1D81-42CA-B94A-5E41FDAE70A7}"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87C624-EF3D-42E5-8EF7-734A418BB290}"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0A35E5-A436-4C67-A162-DC834438911C}"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353081-5BB6-4694-90D5-7C016CE30540}"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E663E6-BD2A-4F9F-B8F8-EB756C1F8621}"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1D8EA1-FE43-4EA2-AA62-52E37C32F63D}"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E6D8A5-1697-4F79-B80A-8BF76B0CFA67}"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3CE3D0-7ACC-4746-8AF3-8877C51D00B2}"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11145C4-B750-40BF-8D01-F7A1D68325FC}"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CC085C-8792-49E3-B5D3-AE4580BC3D31}"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B9DEDF-D8EF-43DC-991D-6F109F2B6B5B}"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B33A0B5-EC28-4D1F-87F3-A72841B6E6D2}"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4425D6-3506-4564-9F73-4BD49C177B02}"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B70B99-B409-4318-BB6E-7BAF248A8B0C}"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812746-7B30-4D5A-A969-8C9FA77D08D6}"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9C0D7E-65BE-4196-B9C0-352120E7716C}"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30807C-8656-467A-9777-D74A38828090}"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D1ACA3-F60B-47AD-983D-954D3B45E92A}"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CBCCEA-8A63-47E9-BDB2-63A143CA5B7F}"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4241F8-04B6-4D56-BFC8-4E7EC218E739}"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C1A311-4B3C-4729-A0EB-993DEF821BCC}"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4A6C8E-E993-4973-B37C-072071CB6C85}"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5FBAA6-16C8-4BC1-BDC7-AD32F45E8317}"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D73C07-39B0-43F2-8F85-6C12A3C3D9E2}"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E92D98-EAA1-4CD3-89A8-C5E6F9192322}"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E110F6-F14D-40E2-B910-5B5857445726}"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9C768C-4485-4F1C-BC6D-FA470230FCB0}"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5D65E2-7ECD-47CA-BFAD-76B97B57DC4E}"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927C42-30FB-43B9-883C-69F47758AB87}"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955EB3-1246-41CE-84CA-B1C3B8F1F75D}"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728B12-D56C-474C-B390-9FDD43E33E35}"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BCDBC1-297E-4F61-9451-82CCFA458B3F}"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76AB02-203D-43B5-9D85-AD51EB4CC9A8}"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0E2B4B-D60C-4F10-8A44-5452B027A192}"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CFA95E-AFDE-4AC3-BAA1-E55A58095C1E}"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315137-D2A4-4EA3-8853-94054BAC6249}"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630F78-3031-414B-A6F2-855B63B011A6}"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20A08B-4D30-48CC-86FB-65AD2584544D}"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BEFCC9-EFE2-4DE9-AD3E-F4AC54D821AB}"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3F37D1E9-ED77-4785-93F8-2AD0ABF9E6B5}"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EC8A1E-229E-478D-8EEC-56E78D69BB2C}"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E99D9C-6660-4465-A504-551FF0A8346A}"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B28380-8455-4208-8EE9-9F383FB127C6}"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F587B6-B022-41E7-8ADE-ECA75663EDAE}"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BD29B3D-A323-4612-AD75-80E72113B97C}"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B36E23-0734-4D80-A627-31B84B95CD3B}"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726CFBBD-0C3E-4C28-BE03-3675A20E3A29}"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ABC8CD-C8B3-4969-A79D-B12DAE1FBC69}"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2A5A53-D78C-44A3-A56B-26D5142758BA}"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704F2C-52A1-4651-B739-F0EE1AB5CCE1}"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B0C430-932E-429D-BA65-7F3F4A4FB042}"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6ABDE7-D7D2-4A54-88F6-BBE5B7929AFF}"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71C23E-335D-48A1-A3FC-3D529850FFE0}"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3D13BC-8277-44AE-9F44-9B19A5B4B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9C9C70-2AB1-464E-99A2-8B4CA764F7C2}"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C9B0BC-65B4-49EF-9AF4-3D5AF3CA9C47}"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44A241B-D0BD-418D-95A8-CEAFA5D4141C}"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9D0ACA8-6410-440E-89DE-4C4AB34FCABD}"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AB06E9E-7372-4FBE-84D2-519DC1C05460}"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A3C26A-7BBD-4C49-B2D8-B61478DD94AD}"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2C8ADF-B433-4893-A9B4-DA6C77E5B04B}"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05B5D8-28E9-407F-A4BE-9EA92641DBFB}"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877ADA-BB33-49E1-AFB8-02CED40AF4DD}"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87690F-617A-49A7-8693-CF7075A9A1FD}"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7D7D02-4006-422E-9F83-0E7F7412B5C5}"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AB55C4-909A-4879-8F08-9200ED5C60AD}"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9CAA36-9460-482E-816E-11438646C754}"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25FDAE-C2E8-4A62-BD41-FAEBF2176871}"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2B6D57A-6BAB-41A6-AB9E-6E3FEB6C7841}"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94F934-B841-460F-8ED6-D4AB4B21B1A8}"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179D830-7900-4EBA-9828-CDB112B1821D}"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27B233-EEF6-444E-9CA1-E06195C3AD95}"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18A84F-C846-4AA5-A267-922F13838553}"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110973-08FE-4D77-AFE9-2D7F6D0FD27F}"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BD093B-B967-4952-9612-5E9ADCBC13B5}"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6C0035-E453-485F-860E-7971D6804ECD}"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7E787F-BEA0-41EE-9344-066DA528F655}"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6F035D6-F8BB-4501-A1F3-D840892939FF}"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190018-6673-4B28-B7F3-E00601F640C4}"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346FFA-967C-4FDA-8638-3491D2F934C4}"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8C42BD6-414D-46A0-941B-80077CAFAD1B}"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90464F7-4403-4D29-9497-031CA341CF34}"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4DBB599-7DDD-4026-ADC7-0797BA0D51F3}"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B9E3AFA-EF38-4BAB-8994-524D1A626A59}"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B44BEC-C5A0-4DE8-9A57-29BD65D333FD}"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F66030-5146-4AF6-8E0F-06762A1870D6}"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D56CF3-C1C8-4F4E-A32E-242D66927E58}"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7ACD50-1E2B-49FF-B871-5F63713D730B}"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7E1AD1-61A5-45C1-9DE9-C1E1250BF667}"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6C4CA7-DE75-40DB-A1CF-968B124CEEA3}"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3DE27B-8F22-4750-8190-E940162552A5}"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A72009-1EC1-494A-9D0A-253758114CB5}"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C28F76-A264-4EAC-922D-4D5175E55F99}"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7F2C71-F137-4193-AC70-C5DE36A675DB}"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89DAEF-A6E7-4228-9E4D-745541C10E24}"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77932E-4B8B-4E2C-A8CF-5171A4F4D4BA}"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43BAE4-BA2F-4791-837D-701808A69BBC}"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B49F3F-3325-4933-A5B7-1757F0FA6390}"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4CA66C-E1CA-4381-9151-18E7360640A8}"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11364C-4925-44B5-BEAA-2B99CB6D38B1}"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96B408-80EC-4031-9F3E-EF0A6E3370A0}"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393DFE-7766-4E3C-9514-A5D7379D8C43}"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25B2A02-70CA-4E17-AF0B-D33BE671BB38}"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10E19D-1D85-4EF0-8168-191620E0A2D0}"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8E1344B-4849-496C-A579-252C2B37AF1C}"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C9CD51-5574-4F6E-BB4F-51ADE50EC7DF}"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BFC0A6-B8F4-4436-91EF-7FE3EA636146}"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0C068A-C586-4A5F-8005-C538E8C11EBE}"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97A1DA-748B-4E38-B863-AC1BAAC97651}"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2267FB-7D63-4A57-9B63-443CFFB0E44D}"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BCF1FA5-11F5-42A1-AF03-48E68AEDEE24}"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41CF3B-1B8F-4D9E-A16E-7A3686D644BA}"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6E0826-5B5B-491A-A584-A7A412581087}"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CC3C8B-D728-436F-8437-660CE35D68E5}"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6ED9A4-5892-4446-9016-A14EDD5DFA23}"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E54E5F-B813-4C08-9EEA-8C4FA6999038}"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E39933A-C9C5-45C2-ADFA-E52977B3F70F}"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6A7173-5BCB-476C-B926-392E67CDC675}"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96C62E-8FC8-4CAB-A76B-6DDFFDCD669B}"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12E1F0-B157-4BEE-9CD4-5198063E4B5D}"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D85F09-BDF6-4406-ADBD-E9F3CB9F78BB}"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AE32C7-1F58-471A-8262-E9B9AFEFEA33}"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C402732-81E9-408B-8A6D-F4986AEFD5F3}"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DAEF1F-8811-44E6-BE62-5F60B93C0FFF}"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D18568-714F-409E-9BCF-5B3BF2C63A3D}"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8D64EF-01DF-4C52-A5B9-7BD9DB91314B}"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00D8557-0A00-4987-9553-F95AF98F1A3F}"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6F98CBF-BBF1-4308-A880-7C2B6E5CEEA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1F0EB0-0D57-4FFF-956E-DC0C12DE6624}"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A58EE1-FE82-489A-BB86-272F65936939}"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0115D6-87F5-4AA9-854E-FAE01CA838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23DC16-6A83-474D-A303-239D2EB4C5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BA4032-A454-4D04-8E7B-440A47EB3E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4D29B8-4BD6-4B92-8D1B-B12CC71FAC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6CFBAE-C416-49DC-989C-42573CF346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DEC0A3-D110-47DB-9468-F34642A59A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5491D5-5288-4930-8102-F4BF8087E0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2DB5D1-AA2E-40EE-9DA7-D6A6095BCB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E80FCF-A10F-4EE1-A7C3-6C5E0D229D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2E3C7C-BBC5-4BDD-AB7B-F94A44C040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93442EC-44D8-43B3-9965-FC7EB91A87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299C8D-5C47-4832-BF77-02EDD9C9B7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8DE84E-5B9A-49DA-8EBA-3725DE91B0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EA7F8C-F0EC-4BEE-A6DC-38334CF50E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FA4A6D-35E2-47EA-82CC-D78CDAE4BD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B2BDB3-213E-4B46-A542-E8B18CE4CA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E5D23FE-67AD-4715-8266-7E2FD33FAD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6BAC71-9EAB-4E8C-8E1F-11B0718576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F21EBD-24A2-4A2A-8635-AA5829ED0A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8BF6B6-75CA-4DE9-9052-CABC522B3A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E76F25-0C6C-4AE9-B44D-DB951731F6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A8F7C2-454B-4A13-AFF4-69B8888D3A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87424EB-D123-44F2-B647-10C33DAF69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F636C1-2F61-4B28-A1BC-40BE0ECB03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A6269E-845F-4023-86D4-E452F4AF2A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8454D5-DC2A-4068-8892-E823D7C3A4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9BC521-B36C-4B8E-B39C-F20941166B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307E7F-D6D6-4B3F-854E-8B98540A2C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C1B83F-B2ED-4E2D-A6B0-EE4625B10C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4FC1E0-0079-42AB-99A6-674B933222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9B7AF87-D0D7-4A29-91EA-67C65C16B5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3FF251-0940-4B53-8B80-C26BAE7B09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E032227-4F42-4791-9077-29A4281C8E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26B458-8D7A-433B-8FD4-62078B4487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D8EEF4-F26D-484B-ABE5-922DAC1DD2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FF17D2-2569-4F2B-BB99-404AC1977C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A9F4DE-389B-47ED-B549-F49A595B1F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AB1190-1420-4930-9FBA-3302262544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28FCCE-EB7F-4635-ADC5-F8ABFA321F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5D8FD2-DCE6-43CF-8598-56D64F528E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04B5211-21D5-4416-BA9B-77583E74AB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3DF0DA-FD90-4295-9B66-A7F45DF269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2EEC4D1-726B-4689-B690-63EC29CC71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63B72A-8CD0-43FB-9996-88019799F2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43CE6EB-874F-43B3-8601-A96EA6F13E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CA820C5-DABD-46CE-A8F0-40FFCE4E81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E833BF-D8C6-4CCD-BE4E-D376A24F62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1050662-4DE3-4E6A-9D6C-45B26CCEA6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4E840F-51FD-4EBE-9F30-82A9763371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578938-2505-432F-8957-3EBC479282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CA8651-84C3-4C5F-B523-F86E1C9BE0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5F6317-4E6F-491C-9D3E-18848C8960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3A4A4DD-875D-46A5-BA00-EB25CD894B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8788DC5-57FD-45E4-9ACC-4ADCBE0AC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A0B6308-E7B8-4704-9570-A219C7DBAB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E285DD-70C3-47F2-9E9A-1FAAA5D28A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4F590E-E055-4CA3-A7A2-531119CF94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71A397-F9A7-4CA3-B7D8-63229F310A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68E446-887D-4E67-998F-31F832EE78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B80BCF7-10FE-470C-A268-9582CF4A09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D3E5DF-6BE2-4821-A506-1B2437299B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932923-EBFE-42DE-A0C0-F7B8FAA2B7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660501-ADDB-4A7E-AB76-69A74AC423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5DDA0C-898F-4963-9F12-4FBEAEE45F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22F6CF-E7EC-44B6-9F05-38671A3A72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19B2B9-4F72-4D56-BF85-CB40EF6F56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66F922-E8A3-4214-961A-2D8E6C7CFD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C6C24C-458B-48DE-A23F-853BADD4A4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DA8CE5-6A38-47EF-B7C7-945A9FD64E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