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1C40-A80B-444C-BA57-A6408C728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C51C1-C7E7-47DD-AE07-639163FD8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DC4A5-8E1B-45D7-A884-9D665FA3E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C511C-458D-4DC3-99E6-E4EA7386D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AE87C-9C51-4A92-AEFE-5B97F6090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324CC6-4054-4E84-8814-C724578C8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BC913-5B7B-4E4D-B947-3EEB45440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28E87-AA5F-4BC7-8307-BF669B62A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3F996-6547-4EA5-8186-2D9427ED9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3874C-571E-4A4E-B880-C0B01C0A2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A919D-02B8-45D5-A5A2-38BCB323E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C8C1E-7914-4E49-8189-FFD309E00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72294-9297-4BA6-BDFC-0C4D4E452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306AE-42E9-4268-8CD0-F9D3C4FC4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ED0E6-F26C-4C2E-855F-580747A74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49329-07CA-45C7-9090-4D3815A9A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54B2F-D733-47A8-99E7-C69170025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FC355-87BE-45DB-8F54-7391CE6B9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49741-44B0-4CAC-99C6-F04AF96EC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53E3C-43BA-47B7-BE90-1EB7F71B9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D7757-01C4-4A20-AC89-0947F92DD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E4395-CC9C-4F31-94A7-8D819C9F0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8F1C2-FDB5-48D0-973A-63A1C02D8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BC897-6456-43E5-92DC-15688AB10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846DD-1ECE-4AA6-A472-EFF7FB72D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0482-1C38-436D-919F-80289CFB6B7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0849-BD77-4597-BCCF-920B443A676B}"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8E4A8263-5438-4666-B66B-8FFD00A2A2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4CE6336-7ECF-4146-BAFE-0F21BB952E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C9F336-7391-4868-9C02-D208F442A0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FE5871-D4C6-4535-A1A5-39D41178EC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42A129-397E-4E89-924A-24BE95EF44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6FFC35-94DC-4EE2-AE65-2D7ECC8422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607EC2-2688-45A8-B696-7701837E3E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89B0AE-2DF0-491C-A9E0-749F2145551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63F1EC-8423-46B0-8D28-72B8C0386DA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85E6CE-0327-4755-84FD-B5175CD523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6BE29C-0CA9-4B25-971C-6723B7C7321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64C1E3-7033-4037-9912-CCC34ABF52C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533FD4C-D97C-472E-BE39-14C7833843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288E70-3477-42E8-BADF-51978B4D266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A0D21E-53EF-4FB7-B90B-670E8A959D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C4D725-13D1-4EC6-8071-2D0D81DF38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F98F886-D1F9-4AC4-AA0D-9DE488DB84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70399F-3543-4FA3-93B7-2D292C80973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AC3562-02FC-493E-823E-61DF848892C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110F7B-A279-413D-825E-A951605240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0585EC-1271-4D67-9350-30C270660E4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B5C506-D514-4144-A49E-B3BACCFE06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476BB9A-7FBD-4D4D-B730-49F338E513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9F538CE-5FFF-4BBE-85A7-FDAEBCFADF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F034E29-F034-4330-A782-F88CBADB41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B4E0ABF-89D9-4B73-B9B3-4D742580ADD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D732BE-85C7-4722-A3EB-91A23E4FEEF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E5E9F9-4ADA-4AE0-A194-7A7C828639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0585D7-7021-4E15-9E00-0AB52578AE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3A36FE-4605-4660-8BF2-591180E1DA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2359467-7C85-41AF-8DAF-B3F234430BC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A368B18-D075-430B-8EF1-2CB7B00613D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9AF6C68-D9D7-469D-BB59-B3A8614E63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C720C5-BFC8-437B-BC1C-3EB1F6DC68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6D7BE3-B5F5-4A88-BDAD-A72CFC0140B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A2C646-BC66-498E-B36B-D8715AFEF2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8D8A96-3F53-4642-A1B9-A3C51CB471D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7334C0-2AE5-49BD-9599-4FDC4A20B11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CEA4CD-8DD1-4CB1-BC07-F08C9D4DBA8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4627DA-1D30-412C-9FA1-B0DD160239F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8DEA40-1C36-48B4-B1EF-2CD037FDBC8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4F46C5-BD56-4FE1-9DBE-3E518D568D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9A85BF-7BA3-4A34-9DE5-FF7D36E8262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DA4C46-2071-46B8-B611-D22EA50ACF5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9486A2-77A3-4E6A-B99C-EB1815B983F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E69E58-645D-4843-9338-0FB13388BA8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BD1EE6C-1922-42A8-BE20-53B6750BC2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B8944C0-0C45-428D-B674-6B55E29BC8D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3C0BE29-B6D2-495C-8B0C-C47F4C46E6B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FC402F6-1235-49FB-9C3F-05708DB10C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FDE112-E162-4961-9103-09E26460156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4A320F-97C4-413F-91E2-77BB8E7AAA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789B1F-34CF-43AA-B8EA-827604B2FC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9949DE1-D1E9-4F64-B968-C05E44B75A8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55ECC0-CE94-4AC1-9E91-1B34B7421BD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D5D0BD-A4E4-4FB1-B8D4-C1D215D75B4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E70BAB-8373-4EA0-8DE7-87198AF643A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FDE199-B1FE-4098-A45E-685526BABD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0AB7954-0AF8-4973-A5D0-86239A3655D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E74448-241A-4B84-957A-6491B498615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CBA9461-25DA-4CFF-AD96-B70D1B218D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47B853-7141-4149-8978-D863B15D8F8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F09A32-2E5B-4729-A557-243BE98B46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CB7EE8-9213-4565-B102-C4484CE4DC1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3976D1B-732B-4F70-95CE-06CAB93D55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2833F9-2FB7-4A88-8566-F7F4020F0D0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2FCDC1F-F1D7-4C99-89D7-003B10F4BB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0A6434-1FE0-4389-A3EE-5EA50564465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3DBB83B-0D7A-4DC0-B75C-9B4114B9E6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BFC80A-A127-4CF4-B75E-65CF659863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6ABB00-CC89-4D48-8590-6D4EEC47267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D797E8B4-A2AB-4708-8E14-455FE63BA4B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5B3E23-840C-4688-9AD1-8BCCB47690F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4B902CE-C294-424A-B7E0-7937FFA99D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E3E30FB-67F5-4667-B699-9068094B49A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D7D27A-9389-4B3E-8B8A-8F746E79167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864100-A7F5-4E89-8505-11EAABA37E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55641F-55A3-406A-BDDA-5BD8C70250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8D0764-815C-4AC8-80F1-518BB69FE38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47827A-A43D-48D1-A104-159D0CBD26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4355284-025C-4C32-A355-83230FBB7E0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A662B1-B855-4DBB-9A65-7E5362C29B6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B883B8-B3B0-4AF1-9F5A-8D39EA66B8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160848-834C-4E04-817C-C45A6E1F398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3B80FC-0955-415B-9DB4-DC910855AA2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6A100A5-9F74-41E4-972A-708F81F0884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0FC051-3F37-48C5-8620-C8738228224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90F8338-54C2-46CA-BA24-25E6CDC7E7B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6542DDE-B8A8-4B68-975E-06F5EA22AC5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0E220A-F125-401C-8D65-0A32D9462A2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4F4042-80C8-45DF-97CD-175A066BE5D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CC73C23-5E60-4D68-98B9-B2169078E7A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3325A2D-3081-4997-B683-AC4C13F2345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BC99EC-584F-41BA-B2B1-FB2249A1F5C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97A4D0-8F23-47E8-A454-7BEEF4767D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00AF20C-5D1F-4ED6-ABA2-BC490F2C00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8A181A-6862-4E8F-B165-F06EB160429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9E24BD-CFFB-4EBF-8AF3-67255505ECD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3DD673-08E6-46AF-8C8E-28FA84DCE9B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2B05842-D384-4E5F-9E6B-3B6EBC59327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DC4CF7-D2A2-426F-A72F-567CD205B41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40EDDA-2AAD-4F55-A85A-79EF128B74D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972249-F07B-4A5A-86E8-C2D41BE2F05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605DE0-5CC1-4699-AB8A-350A7E4559D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82F3310-005F-45EB-AAB3-32F0C95C417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343F63-3254-4A21-9051-C70A81AC14B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FBD4CE-6FB4-47A6-B5ED-0C331235945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4B0A7C-E0DB-42AD-A6E4-2EA300887E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A58437-2BD2-4A82-9041-FA3E3152EBD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971A2A6-A38E-4111-B5FF-D450A26CC59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D8C2F1-557D-4260-8A03-CAFF6EC934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C58AB5-F927-4859-8583-38110F4790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0BA540-2B62-4E57-A6AC-E2F9871BF77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70E12C-B6A8-4437-80C2-D96F12226CB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A8B156-BC7E-4869-9AF6-7A6197FECFA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66394F-70FC-47F5-B8AB-15B5A29DDB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D01230-70C3-4075-9A2F-9646659605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F880BFF-5D94-4DC9-96CC-2A32492EA79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230F3B-F8ED-4356-B713-29C839B9592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0BC081-0758-4B03-8E7F-B9CD3696164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1D0BAA-4246-49F0-B337-F9EFD9D33EE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71F3DA-43FA-4BB3-ADD4-5E91821B1DB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0696CA-4A3E-4383-8F28-BB00986420F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5CC6FC-0E68-4BA0-8FC5-630C2FDBC5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5B5667-CE2E-4F16-85E7-7B43F0E1217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EBCFBEF-A764-4750-8415-40935D1C62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A44D08-EA0B-4E15-B93F-1C4036F23C6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79B5BB-6F6C-4A32-A9AB-1A8AE9E99B7A}"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20ABE9-28E6-4E1E-8CFE-D51B4681B223}"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593D7C-22B0-4579-9471-1C98BEFC46ED}"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82B909-914D-458B-8F81-750660B1C7A5}"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629F52-5DAF-4F86-B7C8-894759C24237}"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6A4A012-BECF-495D-A6D8-8BA910B4855A}"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38E133-A7AD-4F14-932D-3F75ABD6C896}"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E58043-1BDD-4D99-848A-AB1C7AC8503C}"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B17C99-AA84-4FF0-A391-AB78DDEE3EAB}"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355E32-D288-4339-B94B-EBAA55AD76CE}"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4FBC3941-7221-4678-9217-BCE091BDF7CE}"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6E1245-D10B-43EF-A90A-F5F5E234D472}"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D00B96C-EEA4-46E6-AFBF-B3EA35CD424C}"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1722B6-7C7C-4AAC-998B-5C7F096B84CC}"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62C679-69D3-439C-8DA2-439B2E1A12F3}"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680A78-D619-4272-BF3D-B4477BCD27B4}"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E760E7-2B05-4FAE-87CD-729D2B1619AD}"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AFA824-1C37-4EE5-B3C6-A69C236CB2AC}"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DB685B-FFF7-4677-B87D-E03FC301C27E}"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372D5EB-F0BE-43C1-AA73-A7AE27E135EF}"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5ECB61-08B3-4967-87B5-7F1887C77974}"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C2A73F-DCB2-4131-B75E-B3D492FE49E4}"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C2F33D4-B2D6-4064-A52C-6ABCE23BE119}"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A89D9E-A366-4F57-9021-03142BEB82BE}"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29869B-D592-4A8C-9527-DD9747593DEE}"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DCA7295-4793-44AB-8BCD-B47F258089CD}"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AB8BD71-6A9E-40D2-924B-1BD07FDCCB0E}"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4B4106-1F6B-497F-A3BB-A6AA931B0C7A}"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74B617-3224-41F6-8E6A-ACFBE2FAFDF9}"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5661BD-C933-4FC6-AB36-BF3C452D7300}"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8B999C2-22B5-4621-8E48-D31628284A7D}"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FD58B71-307E-499E-8A92-6EB17246A47D}"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D31A85-CD1A-455F-8498-13A667E9E6FB}"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A3A6E4-1602-4896-AF25-94FD06C7D9BC}"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511985-6190-4D03-8481-222D07E23F02}"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C9BD7E-5C49-45C8-871D-FD84DB1CBA8E}"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6F26AC-2C8C-482F-A9CC-6648DF810600}"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4C09D3-F94D-40F9-9E4D-57F9914A7BCC}"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05B4ED-264A-438D-B429-B84593F0EFC3}"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ECDAD79-8DBD-4213-BDC6-55E840A95B3B}"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64A5CFD-FB30-4A81-BB86-2173B7AD0962}"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0984D7F-6D24-4084-AFCC-B56104B28ACC}"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71429809-9C6A-41D7-9E8F-C24AF81CDF72}"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F0BB95-C2C1-4B04-95E2-E5DB3F79C0EC}"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B5469C-242D-428F-A1BA-1BCFE6803787}"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064542-2C21-46B5-87E1-001A8AE416AB}"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38F940-0C74-48BC-84C9-D6AA41C706FB}"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7C3830-BC58-4B1C-86E7-36CB05A9999C}"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A51171-7AF2-496F-B6CB-8FFA2166679C}"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A8D45F-B833-4B50-A44C-7FAA903DC21B}"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2F9FF31-E61E-404B-BAAE-0F3E814F3F72}"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35A060-2C29-4BC1-96B4-03030C839B53}"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4E125C-CCE4-4211-AEDF-C299CCE9D514}"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30FBBE9-DC8C-42F4-9C9F-6C8E3BF0EE28}"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79EB21-8F4A-4778-A598-C2029F5C25F1}"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2ECAE97-D63B-4480-84B4-C0D52032F4E2}"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6C23DB-B444-4FA6-AC3A-13CDD38827FE}"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496750-7DF1-4EA9-8924-A5A474764EE3}"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71846C-84C5-479E-B58E-8FC331F05F41}"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D7006A-25BF-478C-8EB0-AF7D224A2173}"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F1E8802-51F3-4202-82B3-6C38CC4EF993}"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2E308E-2DA8-4947-ACC0-C6B54009486C}"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C7F687-D31A-4C29-836B-792900500A8B}"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EFF6A5-E2CF-456D-8F04-B1C394EED00E}"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40075B-28E3-48E3-9BCA-8B98F7131A4C}"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C28D6A-9EFD-4FD8-AA58-185EB6826C94}"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A1EECA-78BA-4383-B9EF-754A53C7D1C9}"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30F5AB-EF57-455C-9F2E-CF8E13510977}"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B3EE4A-50CA-416F-BA23-F7B633A3511A}"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443A6A-D09D-47AB-87A4-492381A68644}"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95D01E-D97E-4E88-A5A4-971D730C0A0B}"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E77EC4-449C-44A9-A726-C0C5525E778D}"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468672D-98C0-4961-A9B0-311ECA9A70E4}"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BB9B18-2FC3-47DC-93DD-8CF7C64A7796}"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0D4154-7CF0-42A6-923D-2E0EC83B12AA}"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1BAF42-EA77-4B56-882E-63F402FEC057}"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CD54DDE-49A1-4D1C-A75A-032F4729E6C4}"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C25BE7-B559-4D56-88F1-73949717F6E9}"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E9C649-2FB7-4AEE-BA45-5DEB05BE12BA}"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AD88C0-5C8D-425A-81ED-B1462B94C805}"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703B3F-C50B-449F-9260-F38B888B41D0}"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FAE1DEFE-7F9D-4D92-A086-25248D52C82D}"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D81A87-BF5D-41BA-ADE6-D31FB48289C9}"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F2DD0D9-AD4C-4D0C-A204-554517AA5F50}"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85B6D6-0146-475B-9A2D-146E6D5D364D}"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659A4A7-57D2-48F6-B5AF-63308B9273EF}"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D014687-F41B-4CA2-822D-2E6082A9611D}"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FFB174-D518-4B90-A888-E1F4352BBCAB}"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D61A382C-55DE-46F2-AFED-62A329C96B2C}"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4283F3-6CF4-42A8-A916-F61E22C6F023}"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1881DC-A7E4-48E3-B21A-9EC042781CCF}"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9F7498C-E0B2-4F01-86CD-303D2B783C24}"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EC886F-75FB-437F-8E9B-7BD1DB8508B3}"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247106-C225-48AE-A5A1-4EF5150775B3}"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C86171-AB60-4D15-A931-EE9902A4FC5B}"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91FEC3-7DC3-400B-95E2-E494E6AB1A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4FD54B-58C7-4D55-926A-62CE78BE387A}"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61DB22-1226-4DC4-B483-CBA5EE88538A}"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9761FBD-5A49-4A9D-A4B6-344056912271}"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102D3B5-7324-4D96-9790-95AAF0B25503}"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F5CF912-B3DD-4675-BBD7-AD2D1B94E7DC}"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F59315-E860-4515-BA89-D326EC89F1CD}"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3E3A3F-05DB-436F-A367-73EB59A9658F}"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0C15E0-9F26-4C88-814A-BBACF2D2890E}"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B3A8EF-7951-4F56-8F3E-A1F4413CFFD9}"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221C896-4398-44AF-AD6A-4A96888599FA}"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D9AEBF-7EE1-4847-A41F-46E20FFBD49B}"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65303F-20E1-4748-AE06-2BFBA746ED42}"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A9F697-BF27-4395-89F5-9D8C0CB20CE9}"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382BF2-8C20-4C57-AA53-8D8DC3536F63}"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BFA86EB-5D76-4B73-A5B1-DCE80136506B}"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4E68BD-615B-4842-989C-7FE975050489}"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D1F23011-D60D-4687-A0CB-31998C027164}"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2EBC8E-DB7E-44E9-84B2-BDFD3803CB91}"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77D0AD-4866-4124-A83D-45C0D427C117}"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6DE4E7-6280-4701-B016-08FD99CD2F62}"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FDA4AE1-AAFE-4BBB-BE9C-F7F091C54251}"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E67691-67A2-4596-8EBF-038C0A2B44D5}"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87464E-B96A-47A1-BC81-4B40FE00E838}"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07BE915-B6FE-4634-A592-73F4AFFF7405}"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EFB4B9-6DE0-4EB8-83B5-DADA7282882B}"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99896AB-2F7B-493C-B9C6-DA9D88733E58}"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AB7F95A-C619-4CD8-B5E1-5DD15755C253}"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157593B-4AB5-473A-9B83-56EE2D78254B}"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2D384B9-7D9B-4090-8ADC-CA01E3B603F0}"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854F3D1-386F-4B82-AA6D-E690E5E5FD06}"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D32677-A315-4554-A7CA-C15A73ED6A9B}"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71F2D8-E5AC-4471-B7EA-D064F0D143E1}"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CB3392A-B24C-4DF6-8DEB-B650B4CFB3FC}"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C9B435-4339-489D-AF97-A8C25584D511}"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6EED750-EF1D-4B3F-BE1F-4D21E7132E74}"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6BB7441-2531-41FF-AF2E-89358817A699}"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224B7D-E86B-4854-92FD-084A0955B433}"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6FE4305-29E8-450E-B98A-8CCBC55A2450}"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7DB889-BA10-46CB-A102-07E478EA38C2}"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EF9678-E108-4107-A1CA-0E2B28BD523A}"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612E8F-B789-45C2-8DBE-3DCA0E4C550F}"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3264699-E592-4549-8C23-6907CDD59959}"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E35311-5494-4ADC-B2B1-0E382083C062}"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9E15325-B341-4E26-8A2C-D00C03C1F646}"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8D4728-4619-4125-BF47-FCAC34AC7231}"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D33A69-353E-4851-BE27-39C313EFB911}"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1D87556-4D5C-4EDA-BE70-5EC89FDFE4F8}"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5672AC-A00A-4E22-9304-22C15498FCC4}"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2F91DCC-B276-4D1D-A394-0A0A229C151E}"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9E4177-07E4-4A9E-8B2F-135A9FB3F3E0}"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E00B127-E1C3-407D-ADAE-84DDCA15CDA0}"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268F89D-950F-4821-9D15-49C72A4CD7F4}"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05986B-C53A-41C8-9992-0429B6193CAD}"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0FE97D-45C4-45E5-BA8F-A359DA84BAA9}"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D2CD0C-8BCC-4D3C-B632-CC1235E3DC46}"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A6C3B1-05D6-4CC5-A4E1-1156421299D6}"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CE09A70-31FA-4404-AA4D-56308FFCD390}"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98695BC-8E6A-4A50-8A2F-3CCF536EC053}"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DE0644-7799-4F0E-B45E-710CB3F92296}"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E05137-F8B0-4788-B225-ACCDE5DD03E7}"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32E254-9C58-4643-9D68-219BF30A3038}"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B366253-95FD-4DCE-BFB4-D2C6E00976DE}"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69A2A12-5B7C-43D7-872E-BD9CAC0846A4}"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7D41A0-EC9E-4C8C-BCC2-F60A2407327E}"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DE01D4C-3647-4038-BE24-92F70520CAA1}"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065241-FC0F-4269-AC4E-297717895587}"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8FF884-6E44-4C2A-A08C-25A01C40E026}"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8AB0B5-D402-4704-B917-FC231A7BB25F}"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B441567A-B074-43A9-B4AD-E6D74F8C81BC}"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236F7D-DCCA-4BF7-BE24-DE09ADDEA3FF}"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C8DAB5-2690-48D0-A360-351C9485CD16}"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0303A7-3CE4-4C79-B5D8-4806474DB6CC}"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BA6974D-8005-49F2-BDD6-D8C7D16E8E75}"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3E1F373-FEC1-4561-B896-F579DEFA45EA}"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6805465-6F12-4D5D-A275-B2DC44D82CC5}"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C5088C-3001-46F4-9F70-D89B65E14546}"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C771D6-69E6-484E-A529-F71528B346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E1EA68C-E7CF-45A4-910F-974A247A65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226CF2-AE1A-46ED-8E1B-7125D7457A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0E1F09-93EB-4009-AF69-070CBAFFD1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012800-0D3F-4BB6-893C-B611085F13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F17363-13B2-46EA-B3BF-DC2DDF6AAC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4B2EB7-0836-4943-A7E1-27190682BA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08ACFF-FA22-4A27-BCE0-3018A22B09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282E7A-8896-4F97-B9A8-DBBA626EBA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16D57C-5ED5-4B2B-90EA-770ABD2AAB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ACF5F5B6-31AB-4EFF-9C28-FEBA110CD9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C8F39F-EE47-45AA-A1ED-49564AF039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29204B-99C6-42C8-9937-37F7F8FFC2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755797-64D0-4361-9262-C20121797B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CB63A4-773C-410B-9C92-EEF752665F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04EF22-1BF4-481C-BF65-4FD916438B4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A24921A-9472-48A7-B850-8AD836450C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831B87D-3A77-4671-A7F0-9D18F64E8F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42BF24-8848-498B-B97B-E6A23DB3A2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FC7974-4920-44A0-8509-0BEA94A81F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24A640-24DA-444E-8A56-1D736C6221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7794CE-9404-407F-A3DA-D50E5C546F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BCF52BA-C0BA-4CCD-993A-D304F44D7D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152128-5ACE-4A76-97C4-3C68EEC9CD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123879-F41A-4D3A-ADA1-CF867D2E6E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DE14D85-C863-4BFD-8AEA-CB77CAE085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18DCA8-167D-4B9B-8977-162B2F2D00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E1C606-C72E-45F9-AE79-B8B4EA93E4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3144BE-41D3-43C6-88D6-88AE3F3CE4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680E2C-EBC8-45DF-AD95-4832AEA729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F678B7B-234F-47A9-924A-84608E05EF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59A6F0-AC59-4632-85AC-BD36C9BF04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2857B66-4E4E-43B3-884A-E583C10831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AB3D02-91E5-4E64-8123-CAF9E0557D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A3EDD8-649E-4F89-9928-A18CCDD8EF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FC8E448-796C-41F7-B71F-260654BDBB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11DB04-3ACB-4225-A01A-F7B81D7E56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2983CB-4F39-416C-B0DE-3CFD4AC84F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2B0082A-6A4B-4D3B-BDBD-B6D679CF0D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E818D2-34DD-44E7-8C73-6BA300B216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25F71BE-4574-417A-9B8F-015C9506E6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208B394-37FD-41B5-894B-79BD056624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3A7D58A-2F12-48C8-9423-A5314D4B41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3F907E2-208F-432B-9A7B-C3817EE22A2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942EC78-A344-453C-8511-5FA25149ED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DA3F429-8C1B-4CCD-9441-3DB4548565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FAC4CD-1BF8-43F9-93EE-0B1F1CB6AD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DFECCEF-0186-4E72-BAFC-4F29A37C24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9BA4B9-6B34-4A11-A191-F57EE2AE90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EEE323-1F10-4951-B283-52B6301FF5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DA2D5F-B4F2-4646-A4B0-87A4253216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AAE82E-F49A-4FAF-AA5B-E87377E3D4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CFE214D-95F2-4A6D-B1FB-A027EF7588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FB3B565-EBF1-4B9F-87C7-31857C5E21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BE8411A-56CD-4038-83B9-EE31F13BD2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7F5D7C-4830-430C-B78E-B5FF3E7295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1FDC8B1-87C8-41F4-82A9-9D242557EB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B4614A-1E6F-4F66-804C-0D141C04C5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E6467F-F20D-4ED1-B91C-2D1A493605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7BDBB666-83F5-47DA-B620-2C40D8ED69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F05118A-CF10-4C9F-BF20-D3F2CC2E71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0744B4-13A8-4D17-9D0F-8AC0F74CF4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0E04206-C99C-4D3F-9F49-11A4309A65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9783D81-D259-4836-8D86-C2F5395813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53045B-6A84-4667-9541-524FCC9247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604819F-8971-428C-9EEF-5C16F5EB6D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EA24221-05A9-424D-B8C5-2C0A0FEEC1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00A5AB-B82D-4F2C-9B37-CE2950011D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FC59B2-73A5-4746-B302-1074E9F339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