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5340-D5A8-4D9C-B398-F2F9E20A0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5F8C1-93AE-4EE8-B1DF-F30373477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1A894-CFAF-4D4F-B233-43DE04755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4ADCE-B4E3-418E-B5A3-999746245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AD2B1-661E-4A45-A4E0-1FFA378D0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557A7-3FE6-4EEA-AF2D-983FFC746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2C5B0-1B78-44C1-989D-7CE9AD17E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E2B3D-5485-4627-B5F9-58D4730B9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E0342-000C-49B4-A9D5-47F8C6EB6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4F535-C14E-4C87-B152-FB73BED84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24C40-431F-401A-A388-D47EB1D1F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192A0-CCA6-4735-ABC4-45A8BA2F7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816FE-B09B-4576-9380-48BADB340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EA78-0E12-4E9C-890D-FF715AA1D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5EF59-350D-449F-89AA-26CAC1C7A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8B873-38F0-48DF-8A80-8653FE83C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69770-37E1-4A41-AEB2-ACE8B829B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1184E-4D84-461A-8447-E86AB8F4C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D03D7-E956-4DEE-84DE-E2D7D7FF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B994C-8B1A-4520-9B88-1587D2604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1B223-0661-4DCA-BF00-7439094FD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E0AF8-3BEC-43DA-9C6C-87FFF54B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C04A-0816-4F15-AE40-3C8ED009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1950-5F8E-4B29-A2F6-BFDEAAD1C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8DF5-B7F0-4675-A3AA-57A0E1AEC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526C-7254-403A-A09F-F18ADF5AAF4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BC3A-0432-41D0-A6EE-DE36C863630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1E71BBDD-9C11-44C1-905D-2EBD83320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E1B3F8-9544-47C8-893A-085F059708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F4D46E-75E3-4657-94B9-93456B403E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FD939D-262A-42D2-B8A3-25E8BA0BB1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1C439E-1ADD-42DE-A1E8-E0EEF74C21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2BB4B5-A22C-4AD0-AEC0-226460C46F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F4188F-142F-4742-BB18-3595021E7F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2E2EE5-A18D-4F49-AC8E-5D3ED2208F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23413E-C422-49A8-9434-6D9E836112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4E8124-5D25-4A8F-8D13-9CBE6B2940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83FEB3-664A-4FC8-9B8D-B719A9123C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7BA53B-86CD-4122-A12E-87CB2E29DA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C4DAE7-F740-4831-A77E-B295AC20CA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B41329-5EFF-4077-9961-C5E6C36776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078B5E-886A-429B-A968-10175A9C55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98B204-4F55-4F21-9950-126E528FF8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FBF08F-C5A3-4DBA-92E4-44B1920918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52288D-ABF5-4106-828C-7C61A365C7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A35E6B-D555-4A72-9A3F-17DB47770B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13DE80-3EEC-4B9E-B412-D621FDFBEF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34280B-F391-4C09-A204-CD0848E5BB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BE7357-C1C3-4DB4-8242-901C54FBA2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B1F668-ED66-4029-810C-FD2A71C630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754D462-E46E-4D18-AD26-E9410C71F4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A6DE3A9-6484-499E-9EAE-B945DF99D8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747EF5-3435-407A-A949-D991E7B801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349E96-CB34-4D4F-8A86-39EE8F59E9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4118B5-3337-4226-BBC1-C01DD9A233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C5520D-0481-483A-936A-9A0515A19E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9F8D03-145F-4F3C-8BC1-E94A09DC74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4702FF-0251-4992-A890-DB8576E49F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75DD838-5A48-4920-BC8B-6233BFDC66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224AC9-CD28-4F71-B97E-863E2E8438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B384BB-E0E2-4EFC-90A0-54D3824144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81EA41-41C2-435A-81BD-A5F176B3C0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BE77D8-0D51-4733-9B97-7C78CDCAA0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33C8EC-44A7-4A93-8BC6-9D71A6D56F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508925-0CE8-4901-BA9B-3CFA498A69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E4A21B-8305-46F3-99FE-67D5A442F4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3380E2-244A-4F91-8360-A82E9CCD14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AC5DAD-8050-4CEA-BB03-5807F3DA71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B367B1-CB36-4DF9-A8F0-8ECC14208C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41F645-A406-4261-B462-21478B2B77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549283-4E2F-46FF-A7E6-A1C290612F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C5F84A-42CB-4E45-8F8E-ABC3A849F4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376368-3E1D-42DD-B0B6-B51E111F21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43FCFD8-95A1-41B4-B0F4-760FBD2337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185072E-ED28-47C1-AFC3-CC49BCCE76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7E03061-14C5-444F-A007-5D410878B8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583A8BE-6D93-4D58-84AF-F2234FB057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DBBC70-A1AB-4E9C-BD85-A056509686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4E3BB5-EF16-4B25-A7DB-9080E9FBA8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C65AF7-7CD0-4DBB-A870-D11834FAE4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57C905-5DE9-4E85-A61F-9D5299E44F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9FBA12-5677-49B9-9D2E-536FB108C6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2E3FA4-3332-43BC-990E-C34F0D5EF8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7DFEE0-5036-4BE5-9424-DAA08E5BA1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80AB79-8221-4C81-8168-DAC0D0EFA0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2063374-9942-4409-B3F5-4EAA58B75E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AA6885-1B20-442F-82FE-04BF5A341D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A680C2E-3753-4018-AADD-BBAA716898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3D61A5-8C3F-4A0F-BCA2-9D15BD646B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5BF17C-461A-4095-9B65-8167326268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39BCC4-94BB-4AA6-BFFB-B0E778E8AB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E939F7-151C-4FE8-9391-7AAD401DD2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D1CD4F-2C7A-4BD2-904B-A800E185DE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192B7ED-6062-4C68-8252-8405800101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18E032-6162-41EE-9468-18C5111264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EFBFC44-3F02-4F41-A04B-701CE2E126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A35888-B6F4-4B1C-80BB-CAA510AE88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7E5521-B1DC-4E17-9859-34D07F4494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FB798DA-4B94-4DA8-9ED6-B8FD116CD7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AFA881-6509-4101-B1DD-E2A4F99027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A9D5462-CDD0-4B47-9EC1-07A59EA25C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C8264E-6BC9-45F8-804F-4A7A88C214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925F6E-1D13-444E-9639-FCB4C02459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0739E9-26DB-44AF-A82D-651022C6A4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D1EDF3-8C2F-47EF-8274-5B3CA9D769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0CF1B3-E5D6-43A7-A905-71CE9ADA76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D99E73-1020-454D-B606-0C6E096C72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5A246E-E293-4FAC-9F25-510CDDFA44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8DA941-01DF-41AB-9011-58853B922F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C191BB-9D59-4682-812B-DEDB3A5248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6591EC-AEA8-457B-B6E6-E1D5A04415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93F773-760F-4562-9657-245DAC24AD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ED6285-2E1B-4114-AB3F-C5B3483FA8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63F556-E95F-4EA2-9DEE-2DD5FB700C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893745-B264-43AE-A7EE-D1C42EC334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E169778-7AAD-45CF-8D65-70441F2C7B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581AD1-D5DF-4975-842F-4E75C13D48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D3CD6E-AFE0-4604-B699-66CFE8A06F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48492B0-C491-43B6-B06E-58750C6EDE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D69D87A-4FAA-44D2-A41B-DA9775AB5C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6A0F4D-2AA7-4548-9F88-42F3AB4540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1CD228-6958-469F-99CB-2BB7BA54DE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6D4E8C4-281A-44D1-9ADA-5305B56CF6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8CCA34-3663-44D2-AADC-DCC65A9B2B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28910F-2E6E-42F3-BC9C-A913831BC3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8BEC30-02F6-45DD-9C95-704D910C14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F8DC09-DD87-46D1-ADC1-392493C72D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8F6E27-AA70-4701-A095-199ACE34D7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33AB0E-F32B-4483-BD39-E2FB9F44AE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D77B75-14B4-4311-B192-1FE6C30E3C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E58473-259F-4041-A8DD-5E87A3C79E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69CDF50-88AE-4592-A68E-1EE4A40020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6468F4-FDFC-4BC8-8600-7FF8C7B50E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F74816-D8B3-448D-8BAF-A53FE72F26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58DB81-9827-405E-9119-29B07E0ABD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4C0435-37C0-4EF7-931C-5946E53A89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BA4DDC-EFAF-4DB1-A34A-6DBBA601DD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B8C877-30DE-4BFF-A381-3263E64307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6171FA-AD8D-4EED-B55F-9FF23BBCB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222793-8761-4C82-9CE1-4AE5EB05FA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C83C1F-C849-430D-A421-075E867C6B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13DA60-49DC-4214-A541-57AE6C95CA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421AD0-BF32-4EA2-8FAF-53FD13AB7C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F0C0EF-1597-4EEC-B1FB-EA535B85A6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06D7B8-7E3B-4B3B-99E0-84DB29B9A6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BE9A98-0166-4CDC-AFDA-56111A11E7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8EE188-FE2B-4FC3-8371-FF6A4C3C05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29F277-7231-4E38-8495-50480F81F6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14ABBA-91E2-4F8A-8079-53862E448C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D2A6F0-AFCF-4361-B370-EA7E2C2B17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BDB6CF-F86D-4338-BB92-5F1D8E6114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BBA126-E204-443F-97BF-179B7454DA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B90363-B8A1-43FE-9C74-B28CC640B1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7F3EAF-8032-4629-A22A-F41EACBF40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9F3F19-0D96-42D0-B33C-529958A71261}"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944BEC-6297-442C-8A76-C2734DB3C8F8}"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1B3F9A-2D3E-4EF6-A186-EE4CA7EA75A6}"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D9D52F-1F5E-4FEA-880A-5787E8F2C9C5}"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D029E1-ADE1-4235-9D4C-6C2CD45B23CD}"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61094C-A2F4-4E49-8270-6E9D03EFC092}"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143C73-60D1-41D2-95F4-99837D7693ED}"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9D3E22-DB64-4A3B-81CB-F08E951D5D7D}"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73DC94-90D1-41C8-9BD0-35B1F4E55C06}"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1AD9B3-3240-4F51-86D7-6551D9E3CA15}"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8C1DFB0-9793-4CE2-BC9D-620238216AE5}"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17C7D8-DC6D-4F63-8D45-989E755B239D}"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700216-69F9-4F56-9DBE-9A155DBEE88E}"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72FCE1-D21E-459A-B9EF-2EAFF661B243}"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DCB1B2-DC08-4E2C-BD1F-22B81C604FE2}"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4C9F90-11F5-416B-840E-4F9A122BF6DB}"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AE5378-3AB0-489E-B133-171A27665122}"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944261-9BB6-425A-BC46-D5D1C80717E0}"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FCAAC7-8C00-49E3-B3A7-4B5D81F237D3}"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90B7B97-8F72-40A5-9F64-B73B5583A2D9}"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422A63-7812-4084-A212-C7979278B818}"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2C419F-CDA7-4614-84A7-20E886EA0318}"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2E2F37-C328-4CAA-A964-8A8AEEDD8998}"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CDC840-CA32-42CD-BB5D-DB131EC1425C}"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13FF8E-5B09-4F16-B550-A0A567E59A99}"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D89D4EF-BB0D-4884-BD5F-5CDC9F5BE827}"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234D145-2ACB-408B-9997-54FD55C4F6C4}"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D34579-1908-48F4-BAC6-9AFD5AF95EC0}"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953A44-0692-4AD8-8CFE-42F9C1994C31}"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A6EFB4-2728-4DED-9D09-DF320ECC2385}"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48226F2-76A0-406D-9A52-E3EB7DFA2854}"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993D47-1C5A-49D0-893A-D63A7568317D}"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CD479D-FE69-45E3-99F2-E967229AE555}"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0D154B-7F59-4EA0-80FF-7C10E1B564FF}"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51D9F3-1899-480C-89C0-F4E3D53832F8}"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7AE2A0-F0AA-4E8C-B7BE-0D959564E884}"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50BD74-A82A-434E-95C7-5E524C0F6C5B}"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74626E-7B07-489A-BF7C-66DF558CC6BC}"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DC41F6-9AF4-4FD5-A938-0197E1E40A7D}"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510743F-3080-41D8-9DD4-06ED601DC0AA}"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5649C74-C055-4394-954F-26883704E82F}"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311D302-E41D-48E2-91AE-A59BA457D02A}"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27BCE804-02C3-4C60-9AD3-5FEC3E519875}"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28DF4B-562D-4EDB-BF22-65029715D85E}"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C8C766-096C-416D-9672-B67D0BA80CE1}"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7BA3DF-F674-44E3-AA12-41777ED1EC7D}"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38B1EA-ADAB-43E6-BA8E-70C9DB9CD71A}"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394F5A-209F-4EC3-B7BB-A6B74DC9E325}"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B8E0C6-DA05-429B-BC7D-17F0A6F68010}"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0C925F-93DA-417D-93A8-DA0BFA9C87E7}"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CD67623-8026-41F1-9A36-CB33CBA7FC87}"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B650DE-B7AD-4B5F-8D2B-C0DC5FCB9C30}"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552073-A58A-4244-A786-72552AD4DAE6}"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B4830DD-BD86-4EA4-A8CB-802BBED8A748}"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417BEF-2ACD-4770-9803-2B6A4A868CF0}"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D1DFD7A-7213-48C4-AD25-B8946A02A01C}"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153F95-E968-40C6-87C6-910ACFCDDCC2}"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4639D3-8DA8-40C8-8423-E1FC49F6FD03}"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6EEB0A-3A5C-42CC-AB22-627C82B2D44F}"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78814E-AB72-432A-8906-D2A9AF645096}"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D6F8AFD-BD53-41EF-AD3F-D6D54E570382}"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2EA4D3-125C-4887-A36B-BE6CA278B521}"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BC4835-563F-494A-90F0-9C89C097A680}"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1BA4FC-9ED1-400A-86F6-D19E49CAAC63}"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943DFA-3F4F-4921-996F-7A9FA1DDBAAD}"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2CE1D4-2721-4FBE-B5EB-C8CEE4469B00}"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B09EDA-F883-4D7A-9824-C9D65595B087}"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ED6E6A-0C0C-459E-89D7-D63411BE99A7}"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1F3E04-F863-478B-9505-C24A199136C6}"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686464-0259-4F56-8DF3-77164EEE9564}"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D8C7CA-27DA-4711-8201-55A911C30836}"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B16ACC-3B84-4C85-A2FA-69B6566B34BA}"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FE745D-56F9-4E36-BF5A-C11B4225FC89}"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E5589B-8FB6-445F-849C-DC05140E20C0}"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B53031-E26B-4236-9D81-0D6CB942C4D0}"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E70A99-E3CA-45FA-ABBF-159DCA7FBAA4}"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529F30-BBA5-456C-B927-A7677A3D4263}"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F6C385-15F1-43FB-845A-DE8BD2046663}"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D75DCC-C163-44AA-A8AE-3523421A091A}"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FEABF1-4B0B-4CE3-9978-C0DF9304951C}"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46A272-CA43-49BB-89EE-7BBCD150008E}"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1E2B6634-1A11-4126-A392-02CCA6EF3475}"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EE670A-9F88-4FCF-9617-A0208C1010E1}"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EE30AD-6682-4460-99BB-7B349B15F8CC}"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E69FE6-6E9A-4061-B25B-E37690E49175}"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E4115D9-B423-4B62-B65E-E81191CD9FC6}"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47B398-F974-4AE3-85B1-F1044E111CF6}"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98A6A7-4444-41CB-B48F-463CE02835A3}"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A289B92-3241-4873-8BB7-778D4786AB7B}"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2E0CD3-9EF6-47F0-A88A-99E33EE874F7}"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123224-CD5F-4D8B-80F0-8E6A4CDF7361}"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9DFFE1-157B-4A5D-B470-F847032C6653}"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9648DE-1737-41AB-BD8E-37FBCB450C17}"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0D021D-7D0D-44DB-86A7-BA7EE1AC815B}"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234E1E-13AE-42B2-9E71-0D2CBA049620}"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3273EF-8495-4BF3-9C08-4EA01F7C9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3DE12F-0117-4066-BBFE-CA085F032A37}"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075F54-21E9-462F-8939-E4A97EDDA9AC}"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5F96075-417C-4534-A7D4-6C24FE2679FA}"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9E4ED28-9FA5-4B68-8460-D72C28B5D26E}"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F9F4AF1-D57C-44F2-B183-6CA5C0A97B66}"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D1E23F-CAD6-4F66-A5D7-950208BF1BDF}"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4B314B-6610-4301-B1A0-D8F8091A2A51}"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BB1C4E-5655-446E-81A7-00429F4CC324}"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29A5E3-8FC2-404B-8DF0-CA46618401AB}"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0A219C8-FFFB-4C09-B9B3-B4E9B311170C}"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375BED-50C9-4A87-BBAE-5A9B1E070D49}"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63A83B-C8AF-4AD9-ACF1-ADA46F48AF7A}"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9B727B-B2AA-488C-9C93-D260A0EB9023}"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53228C-923F-4F86-ABDA-639C894C5854}"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AB11AB-E586-4AE0-8A12-2B417C102319}"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44C1FE-19A0-42B3-A43F-2A54184F351A}"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95772CC-5C30-46FB-A1F5-06CDB609857E}"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7EA59F-7683-4837-B88B-1CB20153A96B}"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81463A-488E-4F4B-9FCF-22170B174FEB}"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B74D7C-775C-4839-A312-AADA22310E8E}"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EE3720F-4329-4568-A676-1CCAE69A4D14}"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650D55-0D7E-4528-9AE7-1D2ED526CEF2}"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4F3FCE-1019-435F-A68B-837918FBC808}"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EFEF5DC-C5F7-4B3B-B032-091C3C816A9F}"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CFDCD9-575A-4317-AAE2-A4FE4333FCD5}"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5FE85C-BB31-4771-9CCD-C6A498045599}"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E9EF3A0-FECB-4D35-93D9-FF2F776D3D8D}"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A023660-3FC1-49BA-84F6-7F1ED7E20284}"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88B5960-C5C0-47FD-8019-36E51DC1D4C6}"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0818059-9455-4E5E-9DEE-EE7DD87F0642}"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5C8571-D516-4D49-9F39-9F54569B2867}"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BD8E04-F3D9-4ACF-9A86-896B47C7FC98}"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BBA9B71-4E1C-4F6C-B6B7-630310509880}"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83C4E8-2B6A-46E9-A79F-4866DCAB9D94}"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9EF400-95AA-462E-8D4B-66BCDAD66855}"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C46455-292C-411A-8F77-F0E4F75F7718}"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EB9C2B-B957-4F64-AE21-B883A40AE4F4}"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95DC769-D7A1-4C53-966E-9564B822D772}"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27D28B-8218-49D4-BE09-D21C75FED898}"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4B9B20-72E7-4590-A4ED-4E318A11908A}"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2109C8-9990-4D3C-A02C-8611A521F4DE}"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31313E-479F-4413-8AA5-1DC67DDB8636}"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CB158F-1F39-44B8-9112-82C3E4711E5A}"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108D44F-F738-4E9F-AA22-78EC551D89C6}"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CD2A77-EE52-4995-81B6-8BF90D8E3257}"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AB5006-1541-468F-9138-35B8104A2C32}"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E8C8AA-3685-4651-926C-1CA977768A3C}"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0C8905-BECA-4A47-BBC1-5D08DF6DB471}"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20D20FE-CC33-4F20-97B2-7D373BDD67C8}"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18B119-C5A0-4E24-B5BA-4B2CC656B1F7}"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9BC0A43-095B-4C41-966C-B46CB2539A05}"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738A592-DE8D-43E4-9BAC-44F8417DE8FF}"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C54B25-696C-414D-AFE0-D7B20EF9F95C}"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E64892-3486-4F87-8198-3497CBB88F9A}"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D933AA-8C34-4F24-882D-3D64DBDB36E8}"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078557-B31F-44D6-A8A7-99802E4D9C1C}"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D437BF1-C1B8-4598-8B1A-5FB3E2FA9FE4}"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9361C2A-72C6-44B1-AA0C-8104AE77B68F}"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4662B6-4CB8-4444-A8B7-746891BF72D6}"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706938-C590-4A19-9472-C5948A80B759}"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5FA8B4-0CC8-4F9B-B543-320423DABA60}"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EDF6FD3-7B87-4F24-8EFF-919EB8C4B4EA}"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AFDF0A4-D962-46F6-A7B9-B8F338995BD4}"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109A63-75F9-48EC-9088-6CE464736B08}"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958DDF-BF1A-402F-80AE-7FDBD6F8F380}"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6F8743-11F0-4949-AECE-2C7349CC1450}"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92C7AB-652A-4ADD-BF06-902A90A9E6AE}"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3729AF-6946-4D9D-A2DF-D19F4905E4D7}"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90863D27-04AF-474B-B5AD-3F257DCE9226}"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5029C0-2781-417B-BEF1-C332CA741149}"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E1477A-814F-44D8-BDD5-6E82493CDAB6}"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F03D0B-C277-4C4B-8D30-FBB6AD1B48BD}"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0E28E7-41E2-44D4-8916-74934681E115}"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C7A1F60-6844-4902-A3E7-CFC0FC97D129}"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C980A52-5BF5-4865-B07B-30AA7AF91168}"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E2965D-3316-4B79-9F2D-36BB045926B5}"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90E37E-8EDB-4386-8972-0D65F17954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C87031-DD3E-4C44-9C77-AFEAA991FD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3E41F3-81CD-4549-98E9-644A25FA43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F4ABE7-1C76-499B-98E3-3F00DA9ABB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A43DF4-C664-47F9-9E78-C818D387A4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67C5A3-617A-4C52-BCBB-842B6AA36D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74840E-0294-4F62-B8BB-76614E0BB9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8706D6-F25F-4C4C-8126-9CF5BEF7FF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A65F58-BF69-44E1-BAEF-C8FF9AB7D2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0C28DB-BC30-4D3D-846E-1AC2F9EC24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37BBD92-FC85-40BB-B044-BD74DF4632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AA7BA5-FBBB-4AE9-8FC5-92887C616F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C7DC4C-1AFA-400E-9251-A7C1659C38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3D73DC-C6F4-44E2-B385-6C30AB1052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B61003-4D6B-40CA-973D-E825A78B84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287CB3-AF3E-4F61-A3A8-975338FEE3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CD175BC-88A5-40FA-A67B-A3EFAAE54E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04EDEF-6F25-4FBB-9540-7669DF09E6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6D193C-52F6-4835-9F8E-23B0BDF85C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AB1B3A-FABF-4281-88A0-8396CD682E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74177D-65BA-4ADA-940A-4F7D2F76DE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1E87EA-0B0B-4728-9D6D-6D1E9B39D1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32598E7-04FA-4129-B63C-E5E5415FBF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9B283F-7F72-4FCA-B5A9-081904A414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AAB7F1-E4C8-413B-876C-7ED19A33BC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595EA6-CC78-4DCC-AF2B-7667D460ED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B75B0B-A9DE-45C6-8E28-5601D7A1EC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A8F001-D7FD-45E3-AF38-7FB3F022E0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2B2D9F-2129-42CD-A257-A1F7A90DF2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B0AEC9-1587-4AE6-8FC2-778F4F46F4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FB20F8D-793A-44ED-B2A3-7176690238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F48EC9-5B63-4605-A208-00E02FB5C0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62FFC2-B4C0-45EC-A0F1-0ECAE65D35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5219E7-309B-45CF-B0CD-6FB622DDAC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C14DD7-E5B4-4FF6-B86F-62C63A18D6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F3B7445-63F9-448B-9D29-6CC33DF7A2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BA5F51-930A-4BFA-BD1B-A5C60C17E4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6540CB-B2CC-4D40-9F96-81DE9D2DD9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CB0917B-E7F6-4F04-8A94-90EEC2D074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925590-37D3-46E1-ABEF-AA381AEA3A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BBE6AFF-0AD5-48CC-8946-75A6910F9D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D22BFDA-9386-41FB-87C9-E38D20ABE0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C936AB3-AC81-45CD-A92F-B0BD411D61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E3A96D-8766-4658-80CC-C8C7DE3D1E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3F90E9B-EEB4-49AB-B698-2A9CB39B10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AAD9B8-48FD-4D03-9A8A-923CC9809E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76FADB-2EBC-438B-8585-3ACF12E525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3CA24AB-8609-4C6F-82E3-B8C6EF635B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8C6687-89AD-4BB8-9E1E-2F899F17B7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620D50-3305-4091-B554-C074994660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EBAFA6-3C84-4046-B9BE-E420B87F59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466172-F873-4FE9-9A12-53144ABD02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70CCB2D-2532-44A1-9C9A-FFA19708BB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BDBB8F1-90F6-4542-9283-F88FF3F257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FA37770-9701-46D3-B7FA-418FA0F5D4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531DF5-7D70-4584-9EAD-9958B6A332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803A938-51E9-4885-8CC5-668AB57A08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460079-D10E-4CF8-9F22-5A07D53582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6A9230-6313-42F3-A87E-B0F09D22A1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EF9094F-07D0-4314-99CB-A0E2C696D4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F27704-86EA-410F-9F78-1585008115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5618DC-6513-4D70-BF19-85D4B38B34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0A6C35-E990-45FA-B902-107889A3CE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D84249-6849-4551-BA7A-4F01824A26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50B2CB-6E98-4359-B578-2005005294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730746-B232-43E5-8BE1-55C8C5C230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0986D5-C89F-4E39-B5CA-458A83B20F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78010D-E065-426B-AE24-FA5A879C25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647B7E-DCE3-409D-9D2A-036F14E8AA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