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C61C-709B-441B-882A-C2CD2B884E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288A7-3F35-46A8-9628-31317415E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30865-B275-475C-AC3F-5D3B5427C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F30C7-F78E-4B70-A5A3-900F1A1FF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92B10-8127-4ED4-A65D-58C27E901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A0F32-81DE-48B4-818F-16295497E4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94CBE-3D61-48D2-85AF-1446349E8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F2249-C5F7-4570-97BE-5FDC43AA4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6D84F-2163-4E6C-B328-FE536AEB5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2BF18-1C36-47E6-AF3F-013B6DBD8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635FF-E211-4D4A-B642-204527377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59F50-5B27-48DB-989F-6D588863F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14924-1F96-4063-B74F-ED2CD8FC8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6817A-2C51-4ABB-A8E6-2F7BB4E7A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82915-AB90-4276-91A5-6B5908F72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DB021-111A-434C-8D46-99BD64D3B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33D82-D8D5-482D-A53F-269D9E362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470879-4094-441F-9C4A-169922DBF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9C471-3A80-4A94-8F46-F60DE31C1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D726D-41CA-4638-A0C7-9D8DEF29A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00616-FB72-46B0-B358-3FD4E697A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B8CD9-B079-4A04-81FB-70A263234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91466-83B4-42D8-9CAC-753F748CD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B12BE-C71F-4E70-BD0B-C0C7D865E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40F94-AE3D-48D0-A6C6-AF815EC38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3232-178A-4100-9FC6-16BFE0E4562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4258-B7B9-4DE0-932D-4AC74C87D33C}"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67E346AF-04A1-4BF3-9DCF-BE15566DF6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43A8B0-BF7F-4DD0-A2F6-4F94BEA495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8141F9-E11A-4F89-8F52-97342563E5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979F0B-167D-428C-B3AD-C849E946ED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8DC364-FE93-430E-AF78-0AD5DB1BE7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C0E11B-79DA-4F01-AF02-AC1CBF49F1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18974C-8444-479E-A759-335D36387B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AA01E5-A03A-4BDF-AE3A-ED98B3FFDE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81ACCE-0443-4FA8-9D8A-6D4404796A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7988829-BB1C-4216-8C14-A613D710AE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752A07A-CE2D-4E50-9242-0CD11987A00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8C8B83-FEC9-4108-BECB-3E43F98F05C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32956C-ADB1-487A-80CB-A487BF1CB0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626BB3-5031-40B2-B027-D430B95EA2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9FA63C3-5A97-4BEC-A5AB-C055CB5365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AD82BE-C3CF-4C99-9106-361353B917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8E6D92-72DB-496D-AB03-5D0A0217655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4D0457-5018-4616-8559-8A3BFF8AF1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A1A010-7926-476E-9237-7BA413AF0FB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0EEE53-3918-4DE6-9BD5-80E923DB77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F98C28-AAEB-4E54-8BB8-D596A0324F8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500329-6778-497F-8591-25AA0F076F0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6C33F5-9842-431D-91CE-33532A42478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CC8477F-C330-4DEA-ACF0-9CBA3FAB116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86FFC6B-6862-4AF7-BA4F-F0F8296666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D70886B-D461-4F29-9AF7-6F5AFCDE08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7DEC23-9765-4578-8990-9D8F0FA6E7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D38D1C-FA90-4B2B-A5DB-E2E4DA40BC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E83EDF-0280-4375-B8CE-E6026750F07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18FE94-0567-4EB8-BA5C-B884C44F670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D86F59-114A-4292-A373-B0C4B8DE46E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D50FE9F-2841-4C20-B503-17DB0993B4F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8780FB9-E5B9-4C9B-B1DC-51EA4AF3FA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7A77A5-D5ED-42BA-BD4F-15A1AC3880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63E283-732A-4707-9D85-036476528CD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92FF06-A15E-47F3-8407-FB6E3552711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8A21D9-D13C-4953-A83C-A50EE4B7975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857A5B-E709-485E-92C5-F2FE9881BC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6060C0-DF6E-4A24-A7E3-6A7614BE37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AD317C-12A3-4F1B-B650-152E6E796A6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5FCC51-8006-43FC-88E8-734B6D6718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B6A61B-61F5-429A-BB7B-6F2BDBDD6E0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E47B3BF-EB61-4FEE-B2CB-56587DDA179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7E2EBE-7592-476B-9F65-7916BBEEEB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4AFFAB-E6E0-4E66-8DA9-91DC893169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08DC67-A8F7-44F3-8FF9-2436C27B61C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F3E5B51-1C35-411E-A4AF-679CBE34E8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1FFD575-8FA4-40F5-963D-719C9CCBEE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C7E9FD9-F246-4CA2-998F-24858EA144C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3A36367-DA7F-4C48-BF74-FE68A9DCA1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4B2526-523A-4693-A7BE-3F57F04E300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E5D21C-C2D5-466F-B3B2-05B0B11C8D7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A492A2-66B9-46A9-92D9-D1104A581B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ED37EA-00C1-40FD-AC04-4D7FF04B7EC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C75093-2835-4720-86A7-D0F5902C0F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EF645C-5E5E-4773-8E03-55A73CDC6D8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BB5506-F3BA-4522-A45B-7A23B11542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A80E50-2344-41B9-885E-B575CA1E52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3E1D7E3-5338-4A68-9E0A-08922919F8B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DA4915A-6BCB-48D7-8992-39B3519477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18C4FEF-1158-4DB0-A96B-1BD3AABB70F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0F0670-2A2A-416A-BEF9-F64DB5F19C9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FB00B5-FEC0-41C5-A94A-EBD118769D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AD3558-FF0F-4DEA-A030-9C56B83A414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DE5F96-E846-465D-A3E4-DC04A12063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1E33C3-0534-45AE-B5DD-FD3FF6DD8AE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8272426-BA0D-4BF6-A1EB-90C3E5A366E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03D9CC-C51E-4418-B561-72895EA4FFF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0AFC53C-5B18-40BD-BE04-C8D8AB8AA68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86FD7B-34D3-4C67-AAC9-E469C681B86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27F221-41BC-4465-B502-5D2A37BE915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09A2C5FF-A326-479C-917A-6806AD21860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7FF2AD-1615-43DB-91A2-1CB5839F8C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FAC04C3-D85A-44A6-965C-B9E42318CBF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C4A91E-2EAA-4432-BEA3-FEFAD2DDA2E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FA2E00-BB56-4D13-BED5-7E2C8E0CBCA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6FF2DA-4862-40DA-BD94-753722394C3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D9BE54F-5A60-4EF6-925D-A094D436E37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62D0950-3455-4E78-8D34-A6759E98672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A62FCA-6B3B-49AD-B056-CD882B12B01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2756CC-D7EA-4DBC-BEE8-EE4F39B0091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56EF02-5113-49B2-BC8F-CCC81A3D9B4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C3265D-E351-41D5-BCFD-6569FDE189C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455B38-472E-4A99-B162-D3FBB678BB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72B83A-6C97-40DA-8BE3-F8BACDC4C91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78EEAA-827A-414A-9F2E-EB18972062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34A32C-A444-43BA-BFF1-9F17411B8D4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BEED04-A710-4642-8677-B26E4742DA1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4B1BC95-0B68-43AF-8915-386749857A2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C42C0E-B927-4449-956D-DBD307BDB7C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EDEB96-96DD-4251-BF1D-F59E84A2779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CDF096B-4988-40FB-AC85-E839D14005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CCF5AAF-3886-4D15-A069-31589D1D9D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B9B67D-D069-49D2-B0CE-52303A9D5A9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241A179-0563-4B91-8637-ED6BCE6F0E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631E8F2-BA0D-4D41-A5ED-5BFE0CC3E4C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76E449-7152-4A41-BFB9-88B8FE3D3BC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5D98B1-18A1-4A27-B628-EBB55FB8CBA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984C28-C059-493E-967E-84F57C69586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C1682CA-4F8D-4A6C-A471-150B4D1DBE2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EBBA17-09AA-4001-AFAE-944D43E1923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6B0F8B-C5B7-4849-A02D-BEC3FE9AAA7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BEE8CD-6B9C-412E-84BA-0BD256CC0D1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45ADB9-28F1-47FD-A0E8-C883F21BD49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B291D9A-1A01-4D4D-9963-B8FE29C6A9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E11AEB-09B2-4DC1-9815-44ADBD4DA3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A93C09-9701-44F3-B5D2-3D331A922C2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EFEBF8-2AE6-4FEF-8FDD-C7945C8BE2E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F702371-8FE4-41F7-84DA-C27CBF524AB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9BC06D-B945-4ACB-B9F3-D15E6D08DC5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5BDFFA-FB26-4EAF-B05C-5BE8154EAE8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C043F5-7B2E-45FE-9708-7428A9DFAB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2F73B0-7948-46E6-8046-04080EBDA1A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10FC75-944A-4317-8604-6AA459B7984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C710AA-0892-4B65-BE78-85E4673DFD5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024C34-E93F-4CA8-AF59-B00FE075FA0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B9C43D-DC97-401F-BDC6-CDB27CE4E8F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0A3CFFA-B4FA-4B3D-A5E1-C7344806C7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57C3172-C1D2-4E2E-B0C7-04728A52BC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D2C1CAE-9743-4CB7-9986-6893725BFE3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0F1FD4-7399-4B7C-A4FF-45FD6B77E4D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A07111-E368-4326-B99F-CEAF8696A4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BFE39B-3CCF-45CF-95DD-0629AEF6048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681D5A-927C-49AD-AB0D-EBD83A2866E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4B6E36-9F69-4BC5-A042-C3718066D0F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C9FE3C-A880-4CFC-B5C9-B35C15FC5D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89585C-919A-4079-9E94-C303EE0D2DF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72A3B2-1CA1-48F4-823C-78A35B855317}"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5BECA4-19EB-4FD0-A8A1-4E22069102DC}"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7D43D3-35B4-4624-8EDE-8DB57ADA95E4}"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D189E4-C790-445F-9A5E-CF038218B238}"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788B2B-D106-49D2-BF2C-994C395016A9}"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27589B8-1616-400C-A954-3453069EF33B}"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239E9A-5C8B-4685-AA1E-BA46BF7E8D1D}"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2EBACC-D7DF-4A39-B371-55901A27EA68}"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571A11-8F22-4A5F-8D75-AC38BA5F35B7}"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9F3BE38-BCA3-4A3F-9CE0-9978CD630EDA}"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806C50AE-0751-4DDD-ADE2-D417D79CA9C5}"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BD50DE-A3C9-4FBB-8E0A-952DCBB4B123}"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9FB6918-E4CA-46E5-AF7B-D1C1FF4CC7EA}"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998DE6-C724-4DFE-8541-2EAC3AFC5BB7}"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9B87A7-47E0-45F6-B103-860CC3C8924D}"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5D59C5-CF41-4420-BD2A-95F1D73356DB}"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445D30-A0B5-499E-9B12-038E0F54E702}"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EBB5714-4F2F-49D8-BAC5-6E609BC13F36}"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C120DC-75B8-48F5-9C36-933C9A4F1D63}"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1EC0D6E-0415-4DF0-A72C-3316287EE05F}"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EADABB-A97E-481B-87F8-76FE4FA1D4DA}"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1FCF9F-EE90-41B8-B218-8632BD4A67D2}"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FC68D9-E2CC-4862-B517-C1F0D7BCF254}"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F4BC72-1545-44EC-9405-BBA4FAA5BD6D}"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0FD2B9-1BDB-4E26-875C-52B5FA611AF6}"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04CDCE6-32BC-4419-98F4-6CCDF3050C5B}"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7D07BFE-8377-4C2D-9B96-9C49810BE9E9}"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8F5B62-EFA6-43E5-B887-40CE767B5085}"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8D9413-97E9-409A-B141-828D6FC2E7A0}"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B8ED9E-41B3-490A-B7BD-4CD692106A90}"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62FE14B-E17B-4D83-A350-877C39F01CC5}"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DC137DA-B9C6-4989-9866-2AD625EF91F3}"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520610-858B-4519-9DDB-1594F66E6B56}"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CD57B6-7692-4C3E-AE58-BF6FCCA65F74}"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BD3BAE-2B8D-4A07-A322-FC95EACB1053}"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54B81B-037E-40FB-BD5B-CFAC28740C50}"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0BA380-B64D-495B-8554-CD1A805CD0F0}"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BE745D-5046-4883-A424-C771F4103897}"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1BDE51-80FA-46EF-ACE5-34E1C843B391}"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4995500-B34D-4219-876F-8C61B07825FC}"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D0A3550-333F-4936-9A5B-7809556D2F20}"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2C74D62-5CA3-4CF7-B39C-3C82B50336AD}"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1B4928AC-3A27-4FFC-93FE-DC7FCAC2A124}"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964DF0-021A-40C3-893A-4B7194873D84}"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671F8F-6DD7-4A58-9E33-7BACF5AC2774}"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D41B99-3193-4687-B0B1-60DB0D4B84FC}"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D517E1-6449-444E-8009-986076492DEF}"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3B7AE1-74F9-4704-A4B9-CB6CB1CC56AD}"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A22F3F-8911-4024-A67E-45EA8F96C0E9}"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B68032-4A16-4685-85B0-D9C892E12D61}"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8FCD6AF-1110-47AD-9F6C-E40FFEBC8E51}"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7514FE-0A69-492E-9887-26EF0016CA32}"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3446C8-95DC-4C49-9A35-A2BDA6B38426}"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292B278-E590-44C7-A4FB-DF0590E80B0C}"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CFBE11-4F69-4CDE-BEDD-D559A9131047}"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B83F894-D87C-470E-8D5A-2E5534D59356}"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DB1B79-D94E-4480-BD31-21429918831D}"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41655D4-8642-4FA3-8BAF-03C653D5C455}"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0F9412-FDCF-4AB2-9288-6BD1E9EA7620}"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16E717-B894-44F9-826F-45A225277A79}"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7CB3A84-69D4-4C04-8B16-34E64285111E}"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EEE77E-A84B-4ABE-83FE-771F536663B9}"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342EC7-40D4-4B3B-B722-D4BC24D34D46}"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460B62-4C9E-4F1F-B5B4-9105FCACA2B4}"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943A9C2-F456-4DF2-ABAB-90702A905123}"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20B4D4-E63C-4CE4-A0F9-5AA4A22F1DF1}"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BE78D0-E7D3-4CA9-B736-973582564C35}"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01C2B1-E877-46C0-958E-B205C3F49C6B}"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50DF8D-28B4-4B9F-8F19-35054B1485EA}"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053E02-EF14-4FE7-A2FA-B910C076F478}"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47722E-7B85-4D49-BC62-7266140D2203}"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C2C4680-2CF9-4571-8579-584EA4EFB269}"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E2D5D3-BAE0-4940-8932-48BDFB793CAA}"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BA5C43-3701-4BAB-B330-A0968A6F3631}"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8E9662-1538-4F6C-8E76-429680661C92}"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A8B077-E32D-4B15-88B5-3603613751CA}"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525FFD-10D3-404E-803B-7C5FAF49A597}"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729799-1CB9-4919-81A6-74288DF1F79D}"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92495D-21E6-4C3D-8178-BDC5A9615A4A}"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F05942-971C-427E-9206-8AA3A23DAE7B}"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F56614F-1296-4AC3-8DA2-4D0F4489CE77}"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D098ACF5-733A-4870-9FDB-0AB613CA21A5}"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F256E6-5A7C-4D8F-BA64-7F995081D55F}"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97624CF-FEC0-4F88-B5B1-DBEF72C72F4D}"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9C2DE0-9F04-4944-8412-C4EC3BE6DAAD}"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E35B922-5135-40C6-AE2F-C570C5A039D1}"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8D7E1E2-8F15-4165-9EBA-F46A95A89361}"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244E28-BB32-458F-828D-08FFC348BC30}"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2A7B4E37-EF58-427F-A925-CC64E5CA5AD7}"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B704B9-93F2-4FAA-B476-95296BA0727E}"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31A156-A2A4-459C-8CE7-42A2D421E70F}"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9B2BA4-E095-4181-BA1D-0CDBD619C2A0}"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5A2B38-0773-4417-A8DB-EF80A086A411}"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BCB9AC3-D064-4B94-B142-BD63E565C2BA}"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211FD6-0DF7-4BEB-824B-B9ECF6D37631}"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8358D98-94F7-4199-A497-41091C02B4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9B7A06-C8BA-4F3A-9569-4A4B9FC4BB41}"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59488B-2DE8-4D7B-BE29-5A2F8E13A1E9}"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7508D2E-BDB2-43FC-8708-02D1E66208D3}"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7BB98A0-11B9-4C0C-A323-4B1D738F3336}"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20B0E48-B70A-40B5-986B-010F08FFF187}"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7281657-8154-48FF-A272-EAA93411782C}"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620688-23FF-4351-AC66-A517BFAA5F46}"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AD91B2-778F-440F-B7FA-2637CD929F56}"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8949297-9ED8-4B84-BFD8-07FA8B0794A6}"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00B1D53-1127-45A1-BDDA-645C88A01445}"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1156D9-9196-479F-85BA-74904B644120}"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0F6027-0B23-41BD-A531-AC7C71FCC26B}"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9DCE6C-DBD0-47B3-8791-726FD3A0A2B4}"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F1ADF1-F8D3-4752-AAEB-B69491F5A170}"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FAE80E5-E637-4F76-BF34-D69065573D16}"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9C1C72-B0CA-436C-9A96-01311A65B396}"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3237B317-B1EE-40C4-B096-8669584B10F8}"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A693D4-C62B-453C-B11E-DEBF9C9FEBE3}"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E8B786-C3E0-4B88-B56D-8A7F032DE16C}"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910039-568F-4988-90B5-0B9BEEA8D577}"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CE13E99-9091-460C-AEE4-6DE482162F07}"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15323B-A455-46D1-81A8-C662AB72D72D}"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A5F3CE-78FD-473F-AACC-B68E65E830D8}"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E70E27D-F8FA-4D99-9DBD-129D2C539C96}"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0E2D20-D116-4E94-81C7-05E86CFFE8C2}"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D2D380-EB3C-400D-9016-C17685661EA5}"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95FBFEC-591B-4E85-8572-F864E7D72D8F}"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56C12EB-14DD-465C-B23C-B839FC5DF426}"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E1765E1-3B45-4D6A-B12E-4B555E1E2641}"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7A3BA44-7E58-477D-B471-9FB1C0AB2632}"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E98FD8-A8FB-4A0F-9F03-FDB21B5E7A7F}"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F6C378-1A52-4E09-B549-37A8BD68C22C}"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BA0C7B3-75E9-4494-B19E-630B5838C4E3}"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EF2E945-838F-49FF-BA56-85AB40328F73}"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4062BB-CCCC-4559-919E-4C67F91F4A28}"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ED705C1-48DE-4775-8C9E-A1900E9D04C4}"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210870-8836-4A75-941A-F1F2D53D2E5A}"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1C0776F-76AB-49D6-A857-5F4E639FEF9D}"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955A9F-2280-425D-9F3D-D53D1B66F8CD}"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EB6C80-756C-4DAC-93DD-869ED4245FD4}"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D7200A-B56A-4998-B717-A0014A9D362A}"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FBE0D5-E565-4086-B72E-B33231BEE8CA}"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2096220-0188-4B96-A1CF-97B9542134B0}"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09EC5C7-B8FD-4864-A716-9852C28D8F23}"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BEEBBE-1C60-4B3C-ACF0-DDDF0D94D9C0}"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265704-7037-4516-ACAD-AB1FED731E26}"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0265A6F-1849-4F4E-9428-4A9D7CB14502}"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CD337B-17E2-4044-BBEA-3C492067525E}"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D793A24-7891-433E-B3AD-0532FB40CA89}"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79239C-2B84-4A4F-A97B-BBD88E7DB30B}"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B7B30CB-577F-4B3A-A2D7-C7D586E3FE41}"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F84D9C2-6CEA-45B3-8877-A4270075ED01}"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716C52-075C-439A-AC37-BF5ED0B0588C}"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2A9413A-6F5F-44B0-A94A-19280D386850}"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1BA5E1-43BB-402D-ADBD-7F8DA6B4F4A6}"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6254E5-128E-462F-B5E6-2A36C56F3E79}"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D551682-1933-4B4E-A56D-6B318C261BD8}"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770D81C-3944-4520-86FF-3EEC9102635A}"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A9FAD1-B93E-46B2-BD5E-EFA3D5BD9B02}"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C555C2-14B3-4AF3-843E-A8114CC513C9}"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24A1BB-8706-4696-BAB0-32DDC05264D0}"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4059B8D-A4AD-4896-8AF6-72F9E83A11A5}"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1FEA99D-B23A-4EAB-8B01-38043635108F}"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DB972EA-5125-42F8-B59B-98F3506E151E}"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40B5F0-760A-4380-8ECF-2E9FEF13AC82}"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EB05A0-F52F-4B33-AE41-016A8B7C66BF}"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373356-DD7C-4D2D-B42F-1CBC8504967F}"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4147CC-06EC-42E2-9D80-18E145B045BD}"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59390BA6-0FB6-470F-8C28-1AAB365C4181}"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2752E1-EB30-4C5A-8795-A85220B8A8FC}"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A5D299-02C2-4C7F-BD75-4362520547B0}"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4659DF-6455-4AC7-BBC6-B71B4EB16D8B}"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B8A5BD7-203C-4B1F-B33E-7F58ECA29C23}"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17B4339-0DF2-4CF5-A334-AD359611DDC3}"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5425AA4-BA1A-4403-8D26-60BD79315AD6}"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F7FCFE-B472-4E2B-911C-D2A61784950C}"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7FCA712-7737-4768-8A86-B6A970F62D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D09AE5-B4BC-499B-ABC1-C373333512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B8481F-8AD6-415F-95E1-5EF1939641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3727F3-B435-4B20-9139-B4361293CA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A51C4F-BD0E-4927-9335-C348162446D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BDFBAA-2FE9-4467-BBD3-6BB93F1FDC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AFC99B-C851-482C-818F-166B1D33A9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F239D4C-0343-4852-8431-89A0C0A8CC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985AF23-0BDB-4FB6-A404-F03931FB06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7A0F41-CDF8-4C87-8B5E-B7B4C13594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E93444F0-6FC8-4B62-A98C-51B9F47143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3AFE08-A3EA-4CC1-A360-9B8881C240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9FC8495-3D09-4D11-8CB2-5CCDCB0A3A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7860D2-F9DB-4235-8945-4DE075777C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4764B3-32C2-48A2-B929-B5FD4D8200A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7F32DB-137C-453A-93DE-33865F76C5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6DEAC2E-5B40-41EB-8232-CFEAF9D05B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0D7E82-DCDE-426E-BE44-ED7D37CB80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C21B8D-B372-4778-9D69-9DA22587D7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5C4C57-B18C-45F0-A394-8E7C431361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81E511-36D3-4C76-BD8D-963480638C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7B34BE-75F7-4A5D-8884-8593879696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1F7BFA6-41A3-4374-AD28-00BF61CD26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46E371-7236-4B50-AF68-978D4B1BF2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68BA49-8B6C-4709-A5B6-A689FFFB48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DDFF1D-19CF-4EEC-94D3-511D23A640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B031A4-52CF-4AB1-85EB-80947F7207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B806B5-F0F1-4B72-96A1-EEF1BA6DDE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553A834-71F4-42FF-AF5F-DD41CC9460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375640-9DEA-4AE5-B62A-DF8BDFE6DC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0E00DA2-596D-46A9-A814-329DFCF881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D7FDA6-5B3C-4006-888A-0FEDAAE435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0BDBDE0-A1E0-4995-878C-C1EA3A8BF6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7C41F0-DE31-4538-86F4-6D50B217E6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E8015A-2DB8-4A0C-8BF9-BE1CBB60B6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F131F36-F967-4E63-851F-1E0E9A8DC7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41408F-D9C0-44EE-B578-1BD16FACA0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66F1E3-2A8D-4ACA-B406-378321B4B2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3A7F52B-96DC-4DAE-A440-5726DC466C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4680A3-309D-4A52-8F50-B80DF26BF7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CB31BE3-0C9B-4676-81BF-9133C93DCB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DE9A29F-389B-405F-B36E-E168C53BEC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2FC0CAC-4330-42D9-AA62-72C4231679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361F59F-CEC8-447A-854B-D80EC932480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B74F66A-C743-464A-AF10-D96C61E02F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AD4D25F-EF5C-4C09-A454-81E74CD399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08A3E3-535A-4712-B800-FA70E7AD88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F0ED70E-238E-4DEA-B3E5-563EAEB83A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2CB2D3-2618-4F7B-852F-2C48B522A6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84493A-AB42-4876-8886-5879E82798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2C42B5-5227-4B7B-B2C3-8FA6BD0346B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16F6DD-A01F-423A-B2C3-63FD33EA7A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5775CF2-B5DC-4ECB-AA49-DB48F28590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E1718CE-70DA-4356-B9B1-CAF9381393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6F3C519-5951-4CB1-9E06-9DA7FE389E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4AEC2B-FB8B-4BF9-8C60-B3C7DB9D19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44BD0B3-E4E5-421B-978E-2840325F0B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96DA60-D119-4EC2-8F21-422B37C6C3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82BE05-8338-40EF-876B-6C177BCF15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06FCD3DD-60FE-4DED-B93A-58647F3CE89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83E41EF-C2B1-46A9-A512-50D7C8F982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EFB822-4640-410A-B6B5-F45BBC3F74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54D473-6D97-4D76-A2BB-D6D58003E3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5A445D7-BC21-4A62-9A98-8DC2B52397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B391D4-C73D-4BFE-B29D-5A96611205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239D98-82E6-4BC4-A747-CC00B1C3CB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845968-3B89-43F0-8FE0-6E039041D7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F69B83-9439-4674-B6D3-7459C306F5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BCCE42-AF2E-4680-A05F-6F6BEF7846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