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7C86B-DD0E-4D66-B031-6B51CD03C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A09E5-44CA-458F-ABBC-29626166F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2F436-D5CB-414B-A54C-03374FB72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644BE-CB23-44CB-96CD-C1136F609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E6AE9-3CCF-440A-A7F4-B1DAFE581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A8044-A188-4A0A-83F7-7A426BC0F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2D819-EA03-44F2-A857-EE9C98DFA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DB32B-75D8-4F71-8229-4AEBC4192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8D42C-D6C2-4F6F-ABDE-1B23364E6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49223-D48F-4B2F-BE9A-1E9B3D4BB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5863F-5633-42A6-9832-7C6B47F6A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8599C-0801-43BF-860E-90797A4EE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408B-5E14-4B3B-A92D-01A586E89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3CC2A-77AF-421E-8CC5-88C2E2498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6893B-2C8D-45A2-AE89-1A6270953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8CB5C-F795-41E7-B578-B9459AC08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DA671-02F1-43FB-8BE9-BF5CD0111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29162-6D92-49AC-BAA9-9420672C9F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68CF2-331D-4F9A-88FB-9B3FC822E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8100F-D677-4B76-8F78-4A82D8645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7780D-E491-4F60-8797-F5DF79C17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0B289-BB84-4CE2-A5E8-7D5CE35C6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C4E6-DF75-455A-B246-69256405F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B63B6-C91F-4DC7-8408-6F7671CCD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9DE80-A81B-4C7E-A5F5-920ACD310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EA8E-FFAE-4BFB-97DE-529E8CB4CD4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15AD-4D6D-4654-99D2-6023CE644C38}"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C979832A-1955-4FC0-86A6-AECDFEA78D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CD4084-CDEC-4190-AF64-EA4C314AAC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F7DBA5-56DE-463D-8242-A434E1CAD2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5DC090-09CB-4C74-8742-82335BEBF6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DD2A1A-D3BC-4089-AA7D-06E52F84BB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6568BE-EDB8-4E04-AAD5-8AF50F2FB1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C95B3D-0BBF-424F-9BD4-D70D36560A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2A1405-8DC5-4AD0-8947-7D96313391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62A939-8871-4332-9D27-11577AEE37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A6FD4F-2AE9-4027-9C94-23A4CF008D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CAD8F8-2E1E-4D89-999E-4A86808E39F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0C6B1B-462F-4DBD-9335-D9983A1733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D5FC85-3F57-47B8-8B5E-6A9821A49A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05E7F8-AED0-4920-B0EC-36F30A0561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2A8051-940D-4E87-B643-2A7D310000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2839C4-6568-4AA4-B6AA-46F34505A5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4417B8-F2D4-4D30-AC84-B45F415E96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5916AE-7ACC-4C27-828F-B0A7DEFA751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C44D6D-524C-4595-8281-A8E8A27F14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FB008E-D7EE-43D5-8D6F-5B4D264F3E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F66DC5-21CD-4F35-B557-65CA2F2472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C9E630-CCC0-48C3-B3E2-A00ECAD927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747431-9253-4855-B113-4F816CBCD5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F22CB4F-12C8-457F-922B-8DF216BE96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EA0F5BF-2C38-4C49-80B4-A51F6E4E74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6D7426-0E54-45C6-AEF3-2C9366FC35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6B334A-F13B-47D5-8AB8-5AC4DF75B1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EB3658-E083-4A3E-AB9E-D0630BAEEF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1F610D-40AB-4B1F-A763-ACA6019E63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1ADC4F-5F88-496B-9BB3-E18ECC861C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AE4CB9-B858-40DB-AA9E-5C192B8EF5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86E9E22-6EDD-4615-8DF9-0B1CBCE810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E67884B-3AED-4578-8107-2B274262E3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05A10A-C032-4D78-871D-2606C72B8D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B3A221-8347-4B88-89CA-451D70BC92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99A793-B16C-468B-8639-2E0BBABB3BA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99409A-364A-4490-B311-C7D5937710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74F724-C010-4189-9CE3-4A3AD028C0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16C6C9-2C52-48B0-9B68-393083590AD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000A40-E190-4DD5-805C-2BF9C7DB637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8CC46A-C1F6-4230-A47C-0BA93CA463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926102-C3F8-4C4B-86C3-154C358A8A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0AD07B-6D5C-4B97-87F1-B48BE2109E1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4CDD6B-5E32-4B2B-A8CA-ECAC4F9791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225802-96B8-4FB8-977F-143C41F5FB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32A234-83BE-4AAC-A61B-7E387233BE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AA7FFF6-9502-44CE-90A3-37418B1D1F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DD9555D-5707-4540-A514-6AE174C8044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F83CEFC-EE04-4E1C-BC00-5D795092FDF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9F02CBF-10B4-44CD-9C24-E743B5722E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647E12-A578-4D5A-9F5F-7083778C6EF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FFC097-6FDF-4198-9AAC-9FD3B0E0979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708BAA-F65E-4B5C-B3BE-D015B2DD61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A9637E-FAE0-44BF-A6FD-303DFAFF93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7B99EA-FD0E-403A-9EA9-8AC44711BE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EE1AD2-D9FF-4277-AF59-B8C5776E09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2ED3B5-2123-42D7-95C8-B045D6EF73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5E15EC-0322-4178-8BE5-6DE6E5602A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5E404DD-B80E-44E3-A820-79B4E27ADE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2030AB-9875-4C79-B7EA-20EC2BF5F7F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1CF1E24-343E-426F-B2F8-E75E9B74CC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A01EAA-6C10-4905-9B13-C1A3616911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775121-3A9E-42E2-9502-6E6D308018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503FAB-37E6-46A8-9D4C-224DFC53D2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4C46D6-F4C5-47E7-8B27-76FCB8C873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E70E0E-950B-45E0-AEC0-BB830D77A4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C114B35-AE4B-45BD-B231-4E081C0854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8B79EF-3870-48E9-AEB7-08C3A352D7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097CDE5-0833-485C-9D66-580DB7C1FA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2392FE-8051-4829-BA4D-8D44DFB36D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966294-0D01-4783-88A6-A580A47114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4B5649C-29DB-448C-8D85-54274AC8DF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6CF587-4733-40CF-900B-5FB4594F9D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57075AD-BF13-4A8D-B011-E72B754A1F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269AF5-4655-4E3B-B4E0-0152CD8042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A8FD86-84BE-49C1-9C57-37A3B3F1D8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EFCFE0-82C6-4000-A218-3846F6B04A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361C25-8030-422E-8ACA-00114F2B46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7430C5-9039-4DFC-91B9-142E37D6B6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C9DCAE-DE08-470B-BFF8-866DDB579AF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024DA7-777A-46C7-A732-08B32049C1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C553A1-ED92-416B-BC45-4758BF61A9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5A7B03-69D8-4899-BF66-7038CEDE69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829BF3-6AE0-4B44-9C08-61D09F8D9A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C1B6E9-1BFC-4E87-B9B4-E26A2A5E052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15187E-07FA-42A0-AAD9-37B6C0918B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F8A034-B52E-43ED-9132-BC7A907C90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224671-A461-4CBF-939D-61D236B464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00D542F-31B7-4252-A5A7-6DF15023D5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E4820F-EB8D-4165-A658-FC1789C409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47915D-BD5C-41D8-A335-FCE6F96159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2918993-DBD0-4ED0-8487-FA52B598C5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8BF9925-1222-4601-BC29-B58FEFCB862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A052BF-DE00-40AE-8988-26B0837B63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6AB190-4E82-40C7-B20C-4CF7E98CA9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A5D1A2A-579A-4726-9B75-3DE1801B70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72DA11-D6CA-4676-A9AB-7BA5A6CD930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C2BA4B-EEF5-4F0C-82BF-D8085A098D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BF22C5-6E1E-441B-8151-1C6F6C81EB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E9830E-5A55-4AB8-8314-2AF05B3FF2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634298-9524-4964-A6AB-566DE4E3D0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35395B-2D68-401F-A6BE-C67E5565D3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7CA55E-6F08-4319-9B68-F3508441ECA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848E0F-A59E-4479-8BAC-96C5B4AD26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654408A-5827-4B04-BDB2-2B1D55A571A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537CF5-269A-40F5-93A2-E26ABB179C8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B8C0BB-95C9-4E3E-85C6-15CB782BC8B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33F703-6417-473B-93B2-8E93C370D3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8A38EA-BD7F-4B06-8835-243033A887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6EF56B-2256-419D-99B1-7B7E1610B3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B4DACE-6257-4760-9867-88AB55DF55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C20A6E-DE89-4C62-BBF0-88A9C4013C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730747-9D22-44E8-BB97-8EBBC168B0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CB9133-9208-4C14-AA01-1ABAE83F78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44C609-A1A4-43B3-B317-486F8C28C3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B3DE82-B51F-4CC3-957B-7CE043EBE4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7FAA0E-7F34-42BD-B614-B8FBD60562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20D6ED-52AB-4F24-9BB7-2E59C52D91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DD6E91-A092-47E2-A951-460AEA6EE5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F3DE2C-1672-469F-A5C0-C15F8C136AC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DA2912-507A-4914-9435-30FDF44D3C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924FEA7-5A28-4B14-88B9-805B7ECB47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A48E59-5452-41AA-912F-8724BBAC7E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7E3058-3AAA-452B-BF14-694692A3ECE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43BDA6-4114-412D-BEB7-4165677CE8E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14B3B0-2C43-4A5A-9205-16E3F720FE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3EE1DA-7AE3-4272-8F06-AA1460F2F4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75F9F8-9182-4925-B759-A5BA24803D98}"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4CD302-21E4-4DC8-B699-5099025ED28D}"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15814E-D7C0-4DDF-8D5D-5C76707F2759}"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E8008F-DA3D-4C16-87EC-9B6249C30A4B}"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E2B9F0-ADF3-4DDD-8E0A-5D011C2F394F}"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06B6970-13B8-4466-A937-EA437926817B}"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D4BD11-F4B7-4980-A6F1-37D019530A09}"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1912FD-6857-4935-9F47-F3A34E8CBC1F}"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567A6D-1939-4FED-A8AF-F76C519536FC}"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28CC2C-9254-405A-9997-9F85554B1AA5}"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6FB513B3-6248-4AA5-AE6F-3B669013F27D}"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63E8A0-09E3-4AD0-B836-681174FD3236}"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D3F2DC-8BB5-4F9D-9701-97394C23111A}"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07D910-0C3A-4F74-8CE8-12AF538A3ACE}"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0B1D92-51D7-465D-9DA5-7597088EF8F7}"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D89482-3D29-4063-9514-3577B88CE81C}"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82C631-BF9D-4267-BF1B-2E08C6A61719}"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770642-A89C-40B9-8CB2-9080473E96CF}"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733820-B679-42CB-8DC0-C3C59C354A42}"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D84B0A2-44F5-4713-8A84-F79B33AABA65}"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8BDE9D-7121-4C0A-B754-946AFBDB3FFE}"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4053CA-738A-4F63-B196-A68E5F3F2BA6}"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8B16AA-68A9-4A84-ABBE-CD97490D1751}"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8A1DDB-60AD-4AB1-A788-72EA77AF35E7}"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21C5CB-58AA-4201-84A9-7A388CDA586E}"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62C9790-5F7D-474D-955F-8ABA8EA1F281}"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CD3EF6A-456E-43F8-B415-F0D3B4D3C2D6}"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95AA3E-6F7B-422D-9514-338F1919F431}"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BEC347-8ED0-4E03-9DC2-272CC2D99F26}"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C5FC59-9F5F-4723-A994-97886AB261AC}"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69EE6E7-97B9-42F4-848B-19A01EE4BDD5}"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63F79A-6FB7-4718-9BD2-A26AEA7B54E2}"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3745A4-F7DB-481A-B95A-4F0938E5BCE7}"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C0611E-291B-4796-9308-F72E751D8815}"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752BDA-2237-44D4-8AAA-5D971209F796}"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CC10E1-952F-4B6A-8D49-F32E5C7FF2D2}"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C7D504-9E06-4E3B-A479-DBECBBA28DA0}"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2DF872-80B0-425D-81A6-2667C3498FF3}"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05B6CF-EA2B-4B01-ABCE-633A1AE196C5}"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2A683D5-8842-40F2-AE5F-A663BFFF6726}"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461242A-04AC-4031-AE9B-887BA4EC954F}"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8898D24-3C33-44BA-830B-3E68FBE5D222}"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B1FE4048-ADB0-442B-8655-48EA3DC90EA6}"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EAADF3-001B-4F66-9ABF-BA17FA0C3EBC}"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02C904-FE62-4C62-937E-60FF4D0D4595}"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375E7B-7FD5-4018-AA62-912192884FBF}"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563923-8108-4CAF-AE7A-56ABA8CCDE02}"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55BE5E-8AE4-4D83-96D7-03BCEAD10171}"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99E636-5C34-4C83-BB64-97CF98109B41}"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30CE82-EA87-44E4-AE2A-A0150905A0D3}"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ACD785C-129A-4453-824E-E97D17E7A1B1}"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BBCC2A-42A7-4C83-8A96-FBF84CAF17BB}"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C31A37-4BE3-40D9-B246-75A09AA9617E}"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1F44139-2AA2-4A2D-AE19-A01353EF249C}"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F08245-3D42-4C53-8328-1DB4345F1C23}"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05B00A5-CF29-40D3-BEEA-D3CCC3CB8391}"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F3A2EB-4F5E-4393-8B50-C096CFF1A806}"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8DDC32-C586-4D77-B664-872BC6110117}"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C62EA9-AF6A-4705-BDB9-7C26F3C1A425}"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4D51C2-B328-414C-B194-7CF0BD84F46D}"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3CDBBB8-49B4-4305-AA2D-2A12C042CE17}"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737217-B55A-4E63-905C-72E3CCE31E26}"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9D7407-4274-44B7-A830-9F46ED66F311}"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B6ACA6-E3C8-41E6-9E9F-D339BEC7B5AC}"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7BE594-3E4A-42A8-8E4A-4A2ECB71A504}"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019114-2441-4300-9033-6C807C848038}"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A25778-CAEB-49EA-B05E-3C1EA7BC5204}"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D9FC52-EBFC-476B-B969-B4767F910552}"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B90762-47CA-4D45-8F5F-6570277A11FC}"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39E2F8-65CF-4F7F-A38E-40B03897212E}"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DD8B6A-8D3B-4D83-87EB-022C7CD8A55F}"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3F931E-59A9-4408-9C5C-35060F107B3F}"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7E08F2-C92A-46E2-958F-939BBB13A634}"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0B0E24-DA6F-4365-B40E-FAB9531C2294}"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A130C9-1134-4CE2-9AEF-3A7524EBAB5E}"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B2B200-D3DA-4BE9-A584-8EF0A4D25DDB}"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63C8D3-07E6-4184-A976-36107918FAB4}"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7A961C-7128-497D-9C26-068A320BFCD2}"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778797-EE96-4943-89CF-B2A7374B44AD}"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550367-6AA5-4E20-900D-6F8C7C7C56ED}"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FA10DD-07A5-4562-B5C5-42375225A532}"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AF78E9A0-6086-445D-BA43-C537D41544B6}"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787D85-677A-4157-A395-3F83FC0B989C}"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56C4918-8A1D-4AC7-9086-0211BAB2459E}"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1B0C6A-6A90-4161-8B74-95FFB2F3E9EC}"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C6338E2-00A1-45EC-8C72-9F8BF799007B}"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027AE2F-3CCB-4EE9-9380-3236B626F91B}"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0501B7-F332-46E1-BD61-B338B1E35144}"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A988F170-2E75-4AAB-92D7-20C6FB768FED}"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55E937-DE15-432F-8F78-579D3E015F8F}"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07597F-6383-47BE-9BD3-7F4B8E02EC3F}"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04C46C-A10E-4259-BD64-C87DB5856285}"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A7DFBF-67F8-4305-BD71-46F6CEDC32A8}"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7DB689-8778-4A68-B5A9-963461F2AB77}"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479FC0-E8E4-470E-9686-014410123E84}"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CF3823-2A27-45B1-93BC-FF7F31850D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B90D300-7ABB-4792-A5EC-3EEAF27E2C85}"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0C1D04-4433-4406-A739-9E6D9D875E21}"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A53F8C2-3FDA-425D-9897-59C7D6794C2E}"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A416B01-9A0F-4F6B-AAFB-DD89B167FA2A}"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C0F7E34-2060-4D4F-9BA7-F8245A9D167A}"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810DA8-252D-452B-944C-B821F4D4DE1D}"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4FA2BA-59A7-47AC-B24B-2899F3292760}"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1DF2FC-2136-41D6-A4C1-AF784B3EE893}"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D09653-D250-4C19-941D-C95E5DBCE1E7}"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B92066B-9133-4887-9789-0EEF889FF754}"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FBCE78-EE53-4944-AA02-B4F567DDFE6D}"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C3FA6E-18AC-4938-9BC8-9B28358510E4}"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6BE8B1-C799-4C2C-B12C-E30F1DF5EF62}"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7BD489-9255-4E87-A57A-6E1EF256A62D}"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182938B-A8D4-47A4-B5C3-9201B1A0DF08}"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C4E586-B1B0-419F-988D-A7A81A5C0FCE}"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A1B1065-974F-465F-96B4-97E5A952F78B}"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F93B42-226E-4582-B99F-20C64EA38187}"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D1196D-74FA-4886-B2CD-74D7191E4EE5}"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245EBC-7895-4C7B-8597-9257B116E36D}"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BB9B3C3-3A6C-465A-B96F-A60B8DE2AA71}"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405F62-43BC-4025-965B-E8F568F02C7B}"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C2EC3A-D537-4EC0-ABCB-0C6CFA396527}"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C798F80-830D-414F-A592-3B7B44DB67C2}"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CCD9C7-0907-4406-AEDC-136D6773EA0E}"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003965-0889-4E1E-A234-4773B66D3F7F}"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C9BE9A5-22AC-46E2-997C-767ACDCD6FE2}"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5D18DB3-8AD3-42F6-9150-19363FBEF12A}"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9405CD-B896-4577-9E49-CCDAAA4023DC}"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586D82F-DA54-4D87-8CEC-C751EB788455}"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B20092-AA59-4D08-BAD7-8263278D0E19}"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DDB593-8C39-4849-AE99-41011FC5CB4D}"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82AC5EA-5990-4F79-97A7-6E05BD6D6369}"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5416CE-FE2F-41C1-9B53-8DA9199AD842}"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9D49D3-259B-4019-8656-761CC87DAB74}"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E9B1693-B5DF-45CC-90B5-D01F82B928FD}"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416F29-DFF5-477E-8609-BFE06813F16A}"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0F6A423-E213-42B7-8E38-521BAB46AA43}"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B6933E-9EE2-4823-BCEF-2DC45EADED6A}"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242730-A65B-45AD-872A-23AFF61A3786}"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34917B-B1E4-4F6E-A789-5980CCF564BB}"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635799-8A8F-4162-936B-94A8277A3DE8}"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22A2F9-A5AB-451C-BB02-25456D88D322}"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21F100E-259D-44E8-85B5-EE8DF86E6AF0}"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B29796-7ED3-4BE0-98F0-E46117C65067}"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430AA8-6CE5-4A6D-A42E-B468E2A0EE5B}"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AA14B0C-2FA4-4D90-B7CA-CAC8AA2E4430}"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4C88FC-FEC8-4B2A-AA33-1FCB14015D0A}"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10D8086-D31C-4C2A-A027-8AAE09282895}"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7AEB6D-8ABC-4F66-90B1-C8777ED3A583}"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E5BB091-8D55-4D5C-8299-82F82284E9C0}"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3B2E924-CC3D-4CB1-9A33-FC09AE0B6033}"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F78C1B-9FD4-4020-A387-241FBE791FD2}"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89B7E3-31EE-44B1-846C-F15CF47EF4F0}"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905737-66ED-4DA4-A91E-73FFEFB9904E}"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2CF326-5018-46A1-917D-B092C0A854F0}"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89C7984-33A0-430E-BD1F-141B9870B602}"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0E093AB-12CB-40AD-9AE4-3BBD85A8E8E9}"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E0F1EE-5151-429F-8C13-7FAD376AF46E}"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6F6086-CA1E-481A-A43F-4BF21A414883}"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345765-5785-4DD9-B942-4DEB8BB381C4}"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17A7F49-2889-4C7E-9B8B-300248D8F5BE}"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71AF6C0-5699-4DA3-90B5-1B6541E541A8}"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3D34F0-431C-4AA8-A033-8DE179C636C5}"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AEBF44-0927-47E1-91DF-B178E60E4FCF}"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E447DF-A797-417E-B79E-60671F982C9B}"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845639-9A7E-4547-9F77-83852F198331}"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954238-4E4A-4FAC-A839-B3FD3898D166}"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E2BA80A5-53F2-44FE-9E37-7922635CF52C}"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EFE02E-75F2-4721-AE2E-1E9965D29C05}"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EF7C4D-F711-4DD2-85A0-7A0AEBD3571F}"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5DFA84-8E7A-41F6-8155-F54312D5A8BA}"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D73C6FE-E4AE-497F-B8B4-7A9A929DB56D}"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23BE3C5-0B7F-4C33-BF83-FFA08FD88EC8}"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BA0442F-CD4F-4AE7-B81B-BD13476319C0}"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94F469-7161-4B9B-ADA1-99FCFC8A9AFC}"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377959-D194-4DEE-A727-36596F3E43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FFE990-CA4F-4B42-8E10-E03D8DD910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7D6A91-5600-4E4F-A65D-2ABD4C2BB5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88072A-989E-49D3-A113-8B464116AE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1BCE8B-565D-4C0B-98C7-ED8AEBE307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73F878-AFD6-4786-9390-EE2519143B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865E60-D8CA-43F3-B48D-F0E1875F8C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E6B314-ACF5-4B88-A741-B3AEE08DEF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2067DE-FCA4-4AC8-A70D-39BA02591B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BD28EC-2C0B-42BB-87D2-8D01D08963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D87E535-9FB1-47FF-92BE-8D024CD867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16CFCA-26FA-4B5B-876D-E7D6EC6EA5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16B5AA-0754-4A7A-BCF4-E0B2F242BB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89BE5D-24D6-4B86-8DFF-A25777B965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DE6AA4-2740-45F8-8CEF-A59334DB50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7BBC2D-A224-4E31-BBB5-EC41AFF444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0CD6C9A-FDF3-4C72-84A8-ABEB3000D1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15F4A0-1F92-45EF-A45D-A655B5DDCB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E7D256-D601-46AC-9462-3DE7A739702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24443B-077D-4F5B-A8CD-52952757EF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1F17FE-BEBD-4E8C-9285-D6F3FB7EA4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0F8EE8-3123-4B51-B919-616F22EB53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1A276C2-AA40-4E01-A655-9877E8E946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05938A-220B-4974-A3EF-F28C2EE4B9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A31DD1-5890-4FAF-AC31-BFC5CC01A0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640EE7-A681-44EC-8AE9-BABA613357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8C36C4-0E16-41EE-B05C-B8F3BBE59D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575018-F923-41AF-AF11-C653ED938D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895380-4B26-4137-A837-2FD918FD4C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25C33A-2586-4A8D-B61A-9CCBA5649E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C59F21D-10F1-4947-B49E-FD354A9090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3F64E7-8A99-4BFB-A3E4-9AC81A1D85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1FA270E-B313-443F-BD5E-8548CD8B327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C48EA7-FCEF-465D-B748-38BCADC326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B5FF94-F620-473D-B88C-012890128E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35F0E79-77BB-45D9-ADA9-2DEE4E6A10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00FA9B-8F7A-4F56-8AC2-9DDEAF0139F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B1EC86-E775-4866-AADF-05F72C4011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8D760B3-F92B-4218-A46F-A4E320CCEB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B973A2-A254-4F60-982E-1694B226DC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979FAA8-4FA5-4B35-B0F3-1F4FA9AC44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DC8DC62-9115-4525-9562-FE2144F845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5657190-311A-4BCB-A87A-C8A86D1342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82BC18D-666B-4F86-86FF-70B8452C61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0ED5DF2-2079-4E46-94DE-45832582B6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803315E-E22C-45A2-899C-E73FBBA485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1A9D0F-7DB0-4A6D-A3CA-3B0BAA258E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ABBF8AF-6335-4194-8A6F-DFC96A0E98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FE4BDB-D385-42FE-BE0E-68B49E0F07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10006F-B373-4610-A20B-661691D659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E75B78-5B60-4F7E-A14E-DA6DCFEBB5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2B38CB-905D-43E1-9DBD-8494D25F32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2BC293D-9DC8-41DF-BD3F-FD61825DD7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0086E3A-5320-4D06-8107-590276DC63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81E656C-1184-4364-96DB-8B5A55F40E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39EE8A-E243-4987-BDDC-5EB163EE89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CD37402-6B2D-4EEE-8652-F87E4FBE3B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EA544E-4479-4D26-A64C-00921BCF8A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D6ADA0-F452-472F-9E57-42784A1F7F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6377A974-C219-439D-B2FC-09D1AEA3F2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7F4564-EA63-4001-B58E-16CC0E00B6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ECAD2F-F1E1-4BDF-B1AE-5F4EF73E6F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26FB7E-C2EB-4E7E-B448-384C30421B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D03663-648B-4B0B-8E34-DFC7B4261A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483F5E-8B9A-41BB-A573-F95A94AF1B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653F1D-DE9B-4F4E-820E-36F4287F20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6B8DC5-7621-4FE8-8722-C0D8FA45CA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48B380-8C7E-4D65-94F1-9C58DE5A2C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637BE1-8004-4EFB-A89E-A0F4BA6B28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